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E34F-42C9-42BF-9414-AB5412A869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uses facts from UNWTO 2010, but I constructed the pie chart myself, so no copyright permission is needed.</a:t>
            </a: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D98E-C6C0-4E8A-97BB-6429988F99A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D288-6609-4987-8624-2ABD86F48D1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1E0C-E41B-4F15-9F70-DED5FE96C7D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ciding whether to stop at the shoe-disinfecting station at Customs, the U.S. resident only considered their private costs and benefits. The private cost of stopping at the station was the loss of 15 minutes they could spend doing something more fun, like browsing the newsstand before catching their next flight home.  The private benefit of stopping at the station was minimal – they derived very little personal happiness from having cleaner sneaker soles. The private benefits did not outweigh the costs, so they decided to skip the shoe-disinfecting station.  When making this decision, they did not consider the expected benefit to their friend’s family of stopping to disinfect their shoes. If they had, the social benefit of stopping at the shoe-disinfecting station would probably outweigh the social cost, in which case they should stop for disinfection.  When people consider only their private benefits and costs when making decisions, and ignore ‘external’ benefits and costs to other people, they might arrive at a decision that is privately-optimal but not socially-optimal.  In such cases, their privately-optimal decision makes society worse off than it would be if the individual had considered everyone’s benefits and costs and made the socially-optimal decision. </a:t>
            </a:r>
            <a:endParaRPr b="0" lang="en-US" sz="1200" spc="-1" strike="noStrike">
              <a:solidFill>
                <a:srgbClr val="000000"/>
              </a:solidFill>
              <a:latin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4A09-D59B-4CD5-A232-10DBD31FA67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E263-CDDA-4976-8D4C-556EDD2163C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5126-006D-4753-9D9D-FB38882B797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D2AE-E526-4FF7-B997-5E9230AD390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5166-9EEF-4457-BEFC-005507DC86B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4A6C-A5F7-47BF-A236-7449EE84CDF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0899-E2F1-47BE-92B4-606071C2020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B1B3-F59E-482C-99A2-79C20704AB6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9FB4-961C-4068-A7E4-DC51002AA0B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BF8E-7180-498D-A8EC-22D50524FB3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2013-6F61-41B6-BA48-AD3224007BC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E37A-7B1A-4EE8-B5E7-31ECE0E0684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3EAC-D6EC-47F5-B587-9E95573EEC5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nstructed this figure based on information provided </a:t>
            </a:r>
            <a:endParaRPr b="0" lang="en-US" sz="1200" spc="-1" strike="noStrike">
              <a:solidFill>
                <a:srgbClr val="000000"/>
              </a:solidFill>
              <a:latin typeface="Arial"/>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7A8D-2649-48D1-A857-5AF887CAFB4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9BFE-8A47-4659-AA21-2346DEAE5BA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F05E-F73A-4123-B557-9295EE026B5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9C9B-1313-49AE-80F4-F3DCF440D20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EE68-7F97-47BE-98B9-3399171B7AA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D2F6-514D-43DA-A8EE-8920B306374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4443-9AB9-41E7-9F38-E8DF54064C1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0AF6-D877-42DD-9AB7-6021CFE4A30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81A4-995D-4250-9E25-3C5F84F112A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14A8-50B9-4140-BADE-1FE319364DF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81E7-D735-48D4-95A6-450550A2041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7164-D24D-4FB5-9322-BE6B3579F32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91F7-7262-4122-9787-243ED29EEA4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30C6-C28C-498F-BDB1-2A63F57E992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7E5B-1F75-43E7-8F3A-34CAC4ED30B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D88E-0832-4016-A60A-262BB910EE0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0F4A-709D-46FB-B139-AB9C0E984C1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221F-8DA3-44DD-ADBA-F92E264D55E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means for overcoming negative externalities arising from a country/company’s decision to ship contaminated goods to their trade partners is fees on all international shipments, or fines on contaminated shipments. Fees on every international shipment would be easy to administer and enforce, and would reduce the overall number of shipments to the country charging the fee, and hence the volume of pests reaching their shores.  However, it would not attempt to distinguish between countries/companies whose shipments are pest-free versus pest-infested. A country would ideally like to discourage only contaminated shipments from arriving at their ports. Fines for contaminated shipments would target this subpopulation of shipments more effectively, but it may be difficult to enforce given the small fraction of imports actually inspected. The fines would have to be quite large to offset the relatively small probability of an infected shipment being detected. </a:t>
            </a:r>
            <a:endParaRPr b="0" lang="en-US" sz="1200" spc="-1" strike="noStrike">
              <a:solidFill>
                <a:srgbClr val="000000"/>
              </a:solidFill>
              <a:latin typeface="Arial"/>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A203-B859-45EB-B261-4C1E91B8C22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E3D8-729F-4898-85F8-7DA3DFAC940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01A5-13D9-45C4-998A-0E915BFC1A9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D762-DA3A-40F2-9058-1B1CB1337C6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AFD0-7891-40D5-AB65-5D8A78E075E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A178-F204-41C9-9E2F-77573110F5C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2FAD-83C9-41A5-93EF-C2DC9E271FF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DD52-FD04-44E7-8BE7-88D7CF15818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B8A5-ABB0-4351-A3CB-8FBAE2B614C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BBD2-B47B-4999-B153-BA106468009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29A0-9054-4064-9FE7-E5A855163CA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D672-FB81-4F1B-8D4B-306FC16BF81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EC0B-E5D4-4DAF-8800-F62996BC061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C298-1E4B-4709-A628-CC620B1993B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BF88-0B8E-4CA2-883F-CD072E9A095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12.1 of the chapter for a visual summary of the types of market failures and efficiencies that each intervention addresses. </a:t>
            </a: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17A2-5248-4F5A-8F8A-A6DE4BF74FE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C375-8D72-473C-8E75-E46AC390CE5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12D4-9A5E-4FF2-A096-9AA19DFB190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uses facts from UNWTO 2010, but I constructed the pie chart myself, so no copyright permission is needed.</a:t>
            </a:r>
            <a:endParaRPr b="0" lang="en-US" sz="1200" spc="-1" strike="noStrike">
              <a:solidFill>
                <a:srgbClr val="000000"/>
              </a:solidFill>
              <a:latin typeface="Arial"/>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9DC9-98E8-4C24-A759-687085F4F05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7F42641-D811-4A9F-B3DD-3E74D34C7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765B659-4E26-454E-9D1F-3D9E417F8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DCAC289-A57A-488D-9F4D-8235AF128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7EBED45-6B45-4F38-A52C-03AE92F46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88AB6-A513-4589-962D-75E61A816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4CFD6-B273-4B0C-8453-643C4CFE3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104D3-5F4E-4979-A251-26EBD7CD5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63012-A20F-415A-A6D7-0B9613C02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0A599-8528-4B98-B6A4-2645A782D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2F458-E80C-4342-B1F3-A77582DF4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BD4EF-4FC2-402A-A8F5-9489222DC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D49B86-7F16-4A58-A302-5639EC500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B7B91-395C-4215-B323-0D456923A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C9396-40AB-49D7-BF96-86ACBBD0A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7E597-E2E4-46EB-AAF6-AD614AC43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82441-1BBC-47C1-9A11-7A42A7CB5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1679C-4245-44CD-AF42-3710A6C5C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B4976C-CD2A-4837-BCE6-336AF9794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706D67-CB38-47D8-A23E-C7699AE3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B32CAD-4F12-41C2-8BE5-A25887E88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A43F74-8532-4812-809E-C5C47EFA9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E3801B-9FF4-43D5-838B-0862B82B2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48EF97-7663-48A1-9857-47214A70A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DA3E8E-D83E-4810-9DAA-DFDD01BAE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8B80-85DF-4FF0-B33B-23879857E34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5F3C-A976-4CD6-B501-78B2926AB6A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44" name="PlaceHolder 2"/>
          <p:cNvSpPr>
            <a:spLocks noGrp="1"/>
          </p:cNvSpPr>
          <p:nvPr>
            <p:ph/>
          </p:nvPr>
        </p:nvSpPr>
        <p:spPr>
          <a:xfrm>
            <a:off x="456840" y="1599840"/>
            <a:ext cx="838188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travel also more common </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U.S. citizens took 73 million trips abroad</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 the following geographic areas:</a:t>
            </a:r>
            <a:endParaRPr b="0" lang="en-US" sz="24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ests spread through</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iseases in smuggled                                        animal or plant product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eeds &amp; microbes                                                   in soil on shoe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ects in luggage</a:t>
            </a:r>
            <a:endParaRPr b="0" lang="en-US" sz="2800" spc="-1" strike="noStrike">
              <a:solidFill>
                <a:srgbClr val="ffffff"/>
              </a:solidFill>
              <a:latin typeface="Garamond"/>
            </a:endParaRPr>
          </a:p>
        </p:txBody>
      </p:sp>
      <p:sp>
        <p:nvSpPr>
          <p:cNvPr id="145" name="Date Placeholder 3"/>
          <p:cNvSpPr/>
          <p:nvPr/>
        </p:nvSpPr>
        <p:spPr>
          <a:xfrm>
            <a:off x="769608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NWTO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pic>
        <p:nvPicPr>
          <p:cNvPr id="146" name="Chart 7" descr=""/>
          <p:cNvPicPr/>
          <p:nvPr/>
        </p:nvPicPr>
        <p:blipFill>
          <a:blip r:embed="rId1"/>
          <a:stretch/>
        </p:blipFill>
        <p:spPr>
          <a:xfrm>
            <a:off x="838080" y="2489040"/>
            <a:ext cx="7874280" cy="4292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146"/>
                                        </p:tgtEl>
                                        <p:attrNameLst>
                                          <p:attrName>style.visibility</p:attrName>
                                        </p:attrNameLst>
                                      </p:cBhvr>
                                      <p:to>
                                        <p:strVal val="visible"/>
                                      </p:to>
                                    </p:set>
                                    <p:animEffect filter="dissolve" transition="in">
                                      <p:cBhvr additive="repl">
                                        <p:cTn id="1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49" name="PlaceHolder 2"/>
          <p:cNvSpPr>
            <a:spLocks noGrp="1"/>
          </p:cNvSpPr>
          <p:nvPr>
            <p:ph/>
          </p:nvPr>
        </p:nvSpPr>
        <p:spPr>
          <a:xfrm>
            <a:off x="456840" y="1599840"/>
            <a:ext cx="845820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conomic stakes are increasingly high</a:t>
            </a:r>
            <a:endParaRPr b="0" lang="en-US" sz="36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S. food &amp; fiber industry worth $635 billion in 2008</a:t>
            </a:r>
            <a:r>
              <a:rPr b="0" lang="en-US" sz="3200" spc="-1" strike="noStrike" baseline="30000">
                <a:solidFill>
                  <a:srgbClr val="ffff66"/>
                </a:solidFill>
                <a:latin typeface="Times New Roman"/>
              </a:rPr>
              <a:t>1</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3% of this (by value) was exported</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5% of this (by volume) was exported</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Record-setting exports in 2004-2008</a:t>
            </a:r>
            <a:r>
              <a:rPr b="0" lang="en-US" sz="3200" spc="-1" strike="noStrike" baseline="30000">
                <a:solidFill>
                  <a:srgbClr val="ffff66"/>
                </a:solidFill>
                <a:latin typeface="Times New Roman"/>
              </a:rPr>
              <a:t>2</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e to economic growth in emerging markets</a:t>
            </a:r>
            <a:r>
              <a:rPr b="0" lang="en-US" sz="2800" spc="-1" strike="noStrike" baseline="30000">
                <a:solidFill>
                  <a:srgbClr val="ffff66"/>
                </a:solidFill>
                <a:latin typeface="Times New Roman"/>
              </a:rPr>
              <a:t>3</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Non-native pests threaten U.S. exports</a:t>
            </a:r>
            <a:endParaRPr b="0" lang="en-US" sz="3600" spc="-1" strike="noStrike">
              <a:solidFill>
                <a:srgbClr val="ffffff"/>
              </a:solidFill>
              <a:latin typeface="Garamond"/>
            </a:endParaRPr>
          </a:p>
        </p:txBody>
      </p:sp>
      <p:sp>
        <p:nvSpPr>
          <p:cNvPr id="150"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ERS 2009a</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Gehlhar et al. 2007</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Shane et al. 200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3" name="PlaceHolder 2"/>
          <p:cNvSpPr>
            <a:spLocks noGrp="1"/>
          </p:cNvSpPr>
          <p:nvPr>
            <p:ph/>
          </p:nvPr>
        </p:nvSpPr>
        <p:spPr>
          <a:xfrm>
            <a:off x="456840" y="18288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Society wants to achieve technical, allocative, and dynamic efficiency, as well as nonmarket beneficial outcomes.</a:t>
            </a:r>
            <a:endParaRPr b="0" lang="en-US" sz="36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rket failures and imperfect information hinder society’s ability to achieve these market and nonmarket goals.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6" name="PlaceHolder 2"/>
          <p:cNvSpPr>
            <a:spLocks noGrp="1"/>
          </p:cNvSpPr>
          <p:nvPr>
            <p:ph/>
          </p:nvPr>
        </p:nvSpPr>
        <p:spPr>
          <a:xfrm>
            <a:off x="456840" y="1752480"/>
            <a:ext cx="8534520" cy="51055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 &amp; </a:t>
            </a: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 prevent free markets from achieving socially-efficient levels of non-native pest prevention/control</a:t>
            </a:r>
            <a:endParaRPr b="0" lang="en-US" sz="36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r>
              <a:rPr b="0" lang="en-US" sz="3600" spc="-1" strike="noStrike">
                <a:solidFill>
                  <a:srgbClr val="ffff66"/>
                </a:solidFill>
                <a:latin typeface="Times New Roman"/>
              </a:rPr>
              <a:t> reduces the amount of social welfare generated by socially-efficient levels of pest prevention/contro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9"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 occur when an individual considers only the </a:t>
            </a:r>
            <a:r>
              <a:rPr b="0" i="1" lang="en-US" sz="3600" spc="-1" strike="noStrike">
                <a:solidFill>
                  <a:srgbClr val="ffff66"/>
                </a:solidFill>
                <a:latin typeface="Times New Roman"/>
              </a:rPr>
              <a:t>private</a:t>
            </a:r>
            <a:r>
              <a:rPr b="0" lang="en-US" sz="3600" spc="-1" strike="noStrike">
                <a:solidFill>
                  <a:srgbClr val="ffff66"/>
                </a:solidFill>
                <a:latin typeface="Times New Roman"/>
              </a:rPr>
              <a:t> benefits and costs of their decision, and ignores benefits or costs their decision imposes on others</a:t>
            </a:r>
            <a:endParaRPr b="0" lang="en-US" sz="3600" spc="-1" strike="noStrike">
              <a:solidFill>
                <a:srgbClr val="ffffff"/>
              </a:solidFill>
              <a:latin typeface="Garamond"/>
            </a:endParaRPr>
          </a:p>
          <a:p>
            <a:pPr lvl="1" marL="735480" indent="-282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A U.S. resident visits a hog farm in a country where classical swine fever is endemic. They skip the shoe-disinfecting station at Customs, and later visit a friend’s hog farm in the U.S. The herd contracts CSF and is culled, and trade partners ban U.S. hogs and pork products for weeks or months.</a:t>
            </a:r>
            <a:r>
              <a:rPr b="0" lang="en-US" sz="2800" spc="-1" strike="noStrike" baseline="30000">
                <a:solidFill>
                  <a:srgbClr val="ffff66"/>
                </a:solidFill>
                <a:latin typeface="Times New Roman"/>
              </a:rPr>
              <a:t>*</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
        <p:nvSpPr>
          <p:cNvPr id="160"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6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A U.S. farmer detects karnal bunt in their wheat field, but decides not to report it because they fear their entire crop will be destroyed without compensation. By the time officials learn about the outbreak through someone else, karnal bunt has spread several miles to many other farms, and millions of dollars of wheat must be destroyed.</a:t>
            </a:r>
            <a:r>
              <a:rPr b="0" lang="en-US" sz="2800" spc="-1" strike="noStrike" baseline="30000">
                <a:solidFill>
                  <a:srgbClr val="ffff66"/>
                </a:solidFill>
                <a:latin typeface="Times New Roman"/>
              </a:rPr>
              <a:t>*</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
        <p:nvSpPr>
          <p:cNvPr id="164"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68680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ernment address </a:t>
            </a: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ncourage individuals to make socially-optimal decisions through policies that align private benefits &amp; costs with society’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ke it illegal to skip shoe-disinfecting stations and impose a large fine on people who do not comply</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ffer compensation for producers who report karnal bunt as soon as symptoms are recognizable</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ducational campaigns about the social costs of pests  </a:t>
            </a:r>
            <a:endParaRPr b="0" lang="en-US" sz="2800" spc="-1" strike="noStrike">
              <a:solidFill>
                <a:srgbClr val="ffffff"/>
              </a:solidFill>
              <a:latin typeface="Garamond"/>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0"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 have one or more of the following characteristic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rival</a:t>
            </a:r>
            <a:r>
              <a:rPr b="0" lang="en-US" sz="2800" spc="-1" strike="noStrike">
                <a:solidFill>
                  <a:srgbClr val="ffff66"/>
                </a:solidFill>
                <a:latin typeface="Times New Roman"/>
              </a:rPr>
              <a:t>: the same unit of a good can be enjoyed by many people </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excludable</a:t>
            </a:r>
            <a:r>
              <a:rPr b="0" lang="en-US" sz="2800" spc="-1" strike="noStrike">
                <a:solidFill>
                  <a:srgbClr val="ffff66"/>
                </a:solidFill>
                <a:latin typeface="Times New Roman"/>
              </a:rPr>
              <a:t>: it is difficult or costly to prevent people from enjoying a good, even if they have not paid for it</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 goods are usually </a:t>
            </a:r>
            <a:r>
              <a:rPr b="0" lang="en-US" sz="3600" spc="-1" strike="noStrike" u="sng">
                <a:solidFill>
                  <a:srgbClr val="ffff66"/>
                </a:solidFill>
                <a:uFillTx/>
                <a:latin typeface="Times New Roman"/>
              </a:rPr>
              <a:t>under-provided</a:t>
            </a:r>
            <a:r>
              <a:rPr b="0" lang="en-US" sz="3600" spc="-1" strike="noStrike">
                <a:solidFill>
                  <a:srgbClr val="ffff66"/>
                </a:solidFill>
                <a:latin typeface="Times New Roman"/>
              </a:rPr>
              <a:t> by free-markets:  Q</a:t>
            </a:r>
            <a:r>
              <a:rPr b="0" lang="en-US" sz="3600" spc="-1" strike="noStrike" baseline="30000">
                <a:solidFill>
                  <a:srgbClr val="ffff66"/>
                </a:solidFill>
                <a:latin typeface="Times New Roman"/>
              </a:rPr>
              <a:t>*</a:t>
            </a:r>
            <a:r>
              <a:rPr b="0" lang="en-US" sz="3600" spc="-1" strike="noStrike" baseline="-25000">
                <a:solidFill>
                  <a:srgbClr val="ffff66"/>
                </a:solidFill>
                <a:latin typeface="Times New Roman"/>
              </a:rPr>
              <a:t>private</a:t>
            </a:r>
            <a:r>
              <a:rPr b="0" lang="en-US" sz="3600" spc="-1" strike="noStrike" baseline="30000">
                <a:solidFill>
                  <a:srgbClr val="ffff66"/>
                </a:solidFill>
                <a:latin typeface="Times New Roman"/>
              </a:rPr>
              <a:t> </a:t>
            </a:r>
            <a:r>
              <a:rPr b="0" lang="en-US" sz="3600" spc="-1" strike="noStrike">
                <a:solidFill>
                  <a:srgbClr val="ffff66"/>
                </a:solidFill>
                <a:latin typeface="Times New Roman"/>
              </a:rPr>
              <a:t>&lt; Q</a:t>
            </a:r>
            <a:r>
              <a:rPr b="0" lang="en-US" sz="3600" spc="-1" strike="noStrike" baseline="30000">
                <a:solidFill>
                  <a:srgbClr val="ffff66"/>
                </a:solidFill>
                <a:latin typeface="Times New Roman"/>
              </a:rPr>
              <a:t>*</a:t>
            </a:r>
            <a:r>
              <a:rPr b="0" lang="en-US" sz="3600" spc="-1" strike="noStrike" baseline="-25000">
                <a:solidFill>
                  <a:srgbClr val="ffff66"/>
                </a:solidFill>
                <a:latin typeface="Times New Roman"/>
              </a:rPr>
              <a:t>socia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a:t>
            </a:r>
            <a:r>
              <a:rPr b="0" lang="en-US" sz="3600" spc="-1" strike="noStrike">
                <a:solidFill>
                  <a:srgbClr val="ffff66"/>
                </a:solidFill>
                <a:latin typeface="Times New Roman"/>
              </a:rPr>
              <a:t> (non-rival &amp; non-excludable)</a:t>
            </a:r>
            <a:endParaRPr b="0" lang="en-US" sz="3600" spc="-1" strike="noStrike">
              <a:solidFill>
                <a:srgbClr val="ffffff"/>
              </a:solidFill>
              <a:latin typeface="Garamond"/>
            </a:endParaRPr>
          </a:p>
          <a:p>
            <a:pPr lvl="2" marL="685800" indent="-2286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t>
            </a:r>
            <a:r>
              <a:rPr b="1" i="1" lang="en-US" sz="2400" spc="-1" strike="noStrike">
                <a:solidFill>
                  <a:srgbClr val="ffff66"/>
                </a:solidFill>
                <a:latin typeface="Times New Roman"/>
              </a:rPr>
              <a:t>Weed-control on a shared grazing allotment.</a:t>
            </a:r>
            <a:r>
              <a:rPr b="0" i="1" lang="en-US" sz="2400" spc="-1" strike="noStrike">
                <a:solidFill>
                  <a:srgbClr val="ffff66"/>
                </a:solidFill>
                <a:latin typeface="Times New Roman"/>
              </a:rPr>
              <a:t>  </a:t>
            </a:r>
            <a:r>
              <a:rPr b="0" lang="en-US" sz="2400" spc="-1" strike="noStrike">
                <a:solidFill>
                  <a:srgbClr val="ffff66"/>
                </a:solidFill>
                <a:latin typeface="Times New Roman"/>
              </a:rPr>
              <a:t>Several ranchers share a common grazing allotment that is being invaded by yellow starthistle (a non-native weed). Suppose a single herbicide treatment could control the weed. Suppose too that each rancher would benefit enough from the treatment to justify paying for it themselves. An individual might be tempted to ‘free-ride’ though, that is, to wait for one of the other ranchers to pay for the treatment, and enjoy the resulting forage benefits for free. If everyone does this, however, the herbicide is never applied, and each rancher is worse-off than if they had invested in the herbicide themselves.</a:t>
            </a:r>
            <a:r>
              <a:rPr b="0" lang="en-US" sz="2400" spc="-1" strike="noStrike" baseline="30000">
                <a:solidFill>
                  <a:srgbClr val="ffff66"/>
                </a:solidFill>
                <a:latin typeface="Times New Roman"/>
              </a:rPr>
              <a:t>*</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174"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7"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a:t>
            </a:r>
            <a:r>
              <a:rPr b="0" lang="en-US" sz="3600" spc="-1" strike="noStrike">
                <a:solidFill>
                  <a:srgbClr val="ffff66"/>
                </a:solidFill>
                <a:latin typeface="Times New Roman"/>
              </a:rPr>
              <a:t> (non-rival &amp; non-excludable)</a:t>
            </a:r>
            <a:endParaRPr b="0" lang="en-US" sz="3600" spc="-1" strike="noStrike">
              <a:solidFill>
                <a:srgbClr val="ffffff"/>
              </a:solidFill>
              <a:latin typeface="Garamond"/>
            </a:endParaRPr>
          </a:p>
          <a:p>
            <a:pPr lvl="2" marL="678600" indent="-226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t>
            </a:r>
            <a:r>
              <a:rPr b="1" i="1" lang="en-US" sz="2400" spc="-1" strike="noStrike">
                <a:solidFill>
                  <a:srgbClr val="ffff66"/>
                </a:solidFill>
                <a:latin typeface="Times New Roman"/>
              </a:rPr>
              <a:t>Inspection of imported goods.</a:t>
            </a:r>
            <a:r>
              <a:rPr b="0" lang="en-US" sz="2400" spc="-1" strike="noStrike">
                <a:solidFill>
                  <a:srgbClr val="ffff66"/>
                </a:solidFill>
                <a:latin typeface="Times New Roman"/>
              </a:rPr>
              <a:t>  Inspection services  at U.S. ports benefit thousands of U.S. agricultural producers and consumers. Inspection services are very costly to provide, so no individual’s private benefit outweighs the cost of provision. Society might be better off with inspection services, but no individual can justify investing in it, not only because the cost exceeds their private benefit, but also because they cannot recoup their costs by charging other benefactors. Inspection services are a non-excludable good; individuals cannot be prevented from enjoying the benefits of it (non-native pest detection), even if they did not help pay for i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Nonnative Pest Prevention and Control:</a:t>
            </a:r>
            <a:br>
              <a:rPr sz="5400"/>
            </a:br>
            <a:r>
              <a:rPr b="0" lang="en-US" sz="3600" spc="-1" strike="noStrike">
                <a:solidFill>
                  <a:srgbClr val="e5e5ff"/>
                </a:solidFill>
                <a:latin typeface="Garamond"/>
              </a:rPr>
              <a:t>The role of government interventions and their impact on market performance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nnele E. Peck</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868680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t address </a:t>
            </a: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ncourage individuals to organize themselves into cooperative grou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rm a grazing association with a legally-binding cost-share agreement between rancher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llect a tax from all parties who would benefit from a public good and use revenues to provide it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ov’t collects an income tax from benefactors and uses some of it to provide import inspection services  </a:t>
            </a:r>
            <a:endParaRPr b="0" lang="en-US" sz="2800" spc="-1" strike="noStrike">
              <a:solidFill>
                <a:srgbClr val="ffffff"/>
              </a:solidFill>
              <a:latin typeface="Garamond"/>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Date Placeholder 3"/>
          <p:cNvSpPr/>
          <p:nvPr/>
        </p:nvSpPr>
        <p:spPr>
          <a:xfrm>
            <a:off x="457200" y="63244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r>
              <a:rPr b="0" lang="en-US" sz="3600" spc="-1" strike="noStrike">
                <a:solidFill>
                  <a:srgbClr val="ffff66"/>
                </a:solidFill>
                <a:latin typeface="Times New Roman"/>
              </a:rPr>
              <a:t> is not a market failure, but does reduce the amount of social welfare generated from investments in non-native pest prevention &amp; control</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Whole-herd culling would be largely unnecessary if we had perfect disease tests and models so we knew with certainty which individual animals were infected with a disease, and which ones would become infected in the futu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6"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endParaRPr b="0" lang="en-US" sz="3600" spc="-1" strike="noStrike">
              <a:solidFill>
                <a:srgbClr val="ffffff"/>
              </a:solidFill>
              <a:latin typeface="Garamond"/>
            </a:endParaRPr>
          </a:p>
          <a:p>
            <a:pPr lvl="1" marL="735480" indent="-282960">
              <a:lnSpc>
                <a:spcPct val="10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E.g., Many pieces of the avian influenza puzzle are uncertain, such as: the proportion of wild birds carrying the virus; how often they interact with poultry; the probability of disease transmission during  an interaction; and the probability of the strain being highly pathogenic. Millions of dollars could be appropriately invested to reduce the probability of highly-pathogenic avian influenza in poultry, but an outbreak could occur anyway due to imperfect information about the location or timing of interactions between wild and domestic birds.</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formation is sometimes a public good.</a:t>
            </a:r>
            <a:endParaRPr b="0" lang="en-US" sz="3600" spc="-1" strike="noStrike">
              <a:solidFill>
                <a:srgbClr val="ffffff"/>
              </a:solidFill>
              <a:latin typeface="Garamond"/>
            </a:endParaRPr>
          </a:p>
          <a:p>
            <a:pPr lvl="2" marL="741240" indent="-2793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markets might therefore under-provide it</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t address </a:t>
            </a:r>
            <a:r>
              <a:rPr b="0" lang="en-US" sz="3600" spc="-1" strike="noStrike" u="sng">
                <a:solidFill>
                  <a:srgbClr val="ffff66"/>
                </a:solidFill>
                <a:uFillTx/>
                <a:latin typeface="Times New Roman"/>
              </a:rPr>
              <a:t>imperfect info</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und research and help gather information</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ay for research to improve disease tests and model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ather more data about wild-bird/poultry interface</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ov’t should be careful though</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st of getting information might exceed the benefi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anitary &amp; Phytosanitary (SPS) Agreement</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gionalization, Compartmentalization, and Commodity-based trade</a:t>
            </a:r>
            <a:endParaRPr b="0" lang="en-US" sz="2800" spc="-1" strike="noStrike">
              <a:solidFill>
                <a:srgbClr val="ffffff"/>
              </a:solidFill>
              <a:latin typeface="Garamond"/>
            </a:endParaRPr>
          </a:p>
          <a:p>
            <a:pPr lvl="1"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ff-shore Commodity Pre-clearance Progra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search and data collection</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search and data coordination</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ntary certification programs</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 programs</a:t>
            </a:r>
            <a:endParaRPr b="0" lang="en-US" sz="2800" spc="-1" strike="noStrike">
              <a:solidFill>
                <a:srgbClr val="ffffff"/>
              </a:solidFill>
              <a:latin typeface="Garamond"/>
            </a:endParaRPr>
          </a:p>
          <a:p>
            <a:pPr lvl="1"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343080" indent="-343080">
              <a:lnSpc>
                <a:spcPct val="100000"/>
              </a:lnSpc>
              <a:spcBef>
                <a:spcPts val="90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ntingent compensation and pest insurance</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8" name="PlaceHolder 2"/>
          <p:cNvSpPr>
            <a:spLocks noGrp="1"/>
          </p:cNvSpPr>
          <p:nvPr>
            <p:ph/>
          </p:nvPr>
        </p:nvSpPr>
        <p:spPr>
          <a:xfrm>
            <a:off x="457200" y="129528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anitary &amp; Phytosanitary (SPS) Agreement</a:t>
            </a:r>
            <a:endParaRPr b="0" lang="en-US" sz="28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acted in 1995 by the World Trade Organization</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eks a balance between trade liberalization and individual countries’ sovereign right to ensure food safety for its citizens and prevent the spread of agricultural and ecological pests</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iscourages individual countries from using SPS restrictions as non-tariff barriers to international trade; promotes harmonization of standards across countries</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courages multilateral collaboration, information exchange, scientific research, capacity building</a:t>
            </a:r>
            <a:endParaRPr b="0" lang="en-US" sz="2400" spc="-1" strike="noStrike">
              <a:solidFill>
                <a:srgbClr val="ffffff"/>
              </a:solidFill>
              <a:latin typeface="Garamond"/>
            </a:endParaRPr>
          </a:p>
          <a:p>
            <a:pPr lvl="3" marL="12002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9"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WTO 200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pic>
        <p:nvPicPr>
          <p:cNvPr id="202" name="Diagram 5" descr=""/>
          <p:cNvPicPr/>
          <p:nvPr/>
        </p:nvPicPr>
        <p:blipFill>
          <a:blip r:embed="rId1"/>
          <a:stretch/>
        </p:blipFill>
        <p:spPr>
          <a:xfrm>
            <a:off x="609480" y="1463760"/>
            <a:ext cx="8004240" cy="4956120"/>
          </a:xfrm>
          <a:prstGeom prst="rect">
            <a:avLst/>
          </a:prstGeom>
          <a:ln w="0">
            <a:noFill/>
          </a:ln>
        </p:spPr>
      </p:pic>
      <p:sp>
        <p:nvSpPr>
          <p:cNvPr id="203"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OIE RCA 2004</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RPPO of Americas 199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06" name="PlaceHolder 2"/>
          <p:cNvSpPr>
            <a:spLocks noGrp="1"/>
          </p:cNvSpPr>
          <p:nvPr>
            <p:ph/>
          </p:nvPr>
        </p:nvSpPr>
        <p:spPr>
          <a:xfrm>
            <a:off x="457200" y="1219320"/>
            <a:ext cx="8686800" cy="5029200"/>
          </a:xfrm>
          <a:prstGeom prst="rect">
            <a:avLst/>
          </a:prstGeom>
          <a:noFill/>
          <a:ln w="0">
            <a:noFill/>
          </a:ln>
        </p:spPr>
        <p:txBody>
          <a:bodyPr anchor="t">
            <a:normAutofit fontScale="96000"/>
          </a:bodyPr>
          <a:p>
            <a:pPr marL="333720" indent="-3337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hallenges for the SPS Agreement</a:t>
            </a:r>
            <a:endParaRPr b="0" lang="en-US" sz="36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Few countries considered [non-native pests] a high priority, had coordinated policies and plans in place specifically aimed at minimizing the problem, and were dedicating substantial resources to prevent and control the spread” (conclusion from U.S. State Dept’s worldwide surveys in 1999 and 2001).</a:t>
            </a:r>
            <a:r>
              <a:rPr b="0" lang="en-US" sz="2800" spc="-1" strike="noStrike" baseline="30000">
                <a:solidFill>
                  <a:srgbClr val="ffff66"/>
                </a:solidFill>
                <a:latin typeface="Times New Roman"/>
              </a:rPr>
              <a:t>1</a:t>
            </a:r>
            <a:r>
              <a:rPr b="0" lang="en-US" sz="2800" spc="-1" strike="noStrike">
                <a:solidFill>
                  <a:srgbClr val="ffff66"/>
                </a:solidFill>
                <a:latin typeface="Times New Roman"/>
              </a:rPr>
              <a:t> </a:t>
            </a:r>
            <a:endParaRPr b="0" lang="en-US" sz="28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veloping countries lack resources for SPS issues</a:t>
            </a:r>
            <a:endParaRPr b="0" lang="en-US" sz="28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IE &amp; IPPC have voluntary evaluation programs</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lvl="2" marL="1100160" indent="-214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erformance of Veterinary Services</a:t>
            </a:r>
            <a:endParaRPr b="0" lang="en-US" sz="2400" spc="-1" strike="noStrike">
              <a:solidFill>
                <a:srgbClr val="ffffff"/>
              </a:solidFill>
              <a:latin typeface="Garamond"/>
            </a:endParaRPr>
          </a:p>
          <a:p>
            <a:pPr lvl="2" marL="1100160" indent="-214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hytosanitary Capacity Evaluation </a:t>
            </a:r>
            <a:endParaRPr b="0" lang="en-US" sz="2400" spc="-1" strike="noStrike">
              <a:solidFill>
                <a:srgbClr val="ffffff"/>
              </a:solidFill>
              <a:latin typeface="Garamond"/>
            </a:endParaRPr>
          </a:p>
        </p:txBody>
      </p:sp>
      <p:sp>
        <p:nvSpPr>
          <p:cNvPr id="207"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WTO STDF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Date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0" name="PlaceHolder 2"/>
          <p:cNvSpPr>
            <a:spLocks noGrp="1"/>
          </p:cNvSpPr>
          <p:nvPr>
            <p:ph/>
          </p:nvPr>
        </p:nvSpPr>
        <p:spPr>
          <a:xfrm>
            <a:off x="457200" y="1219320"/>
            <a:ext cx="8686800" cy="5029200"/>
          </a:xfrm>
          <a:prstGeom prst="rect">
            <a:avLst/>
          </a:prstGeom>
          <a:noFill/>
          <a:ln w="0">
            <a:noFill/>
          </a:ln>
        </p:spPr>
        <p:txBody>
          <a:bodyPr anchor="t">
            <a:normAutofit fontScale="94000"/>
          </a:bodyPr>
          <a:p>
            <a:pPr lvl="1"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698400" indent="-322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levant Federal Law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ant Protection Act of 2000</a:t>
            </a:r>
            <a:endParaRPr b="0" lang="en-US" sz="24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l Health Protection Act</a:t>
            </a:r>
            <a:endParaRPr b="0" lang="en-US" sz="24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ederal Seed Act</a:t>
            </a:r>
            <a:endParaRPr b="0" lang="en-US" sz="2400" spc="-1" strike="noStrike">
              <a:solidFill>
                <a:srgbClr val="ffffff"/>
              </a:solidFill>
              <a:latin typeface="Garamond"/>
            </a:endParaRPr>
          </a:p>
          <a:p>
            <a:pPr lvl="1" marL="322200" indent="0">
              <a:lnSpc>
                <a:spcPct val="10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Garamond"/>
            </a:endParaRPr>
          </a:p>
          <a:p>
            <a:pPr lvl="1" marL="322200" indent="-322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imary Federal Agency</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 Department of Agriculture - Animal &amp; Plant Health Inspection Service (USDA APHIS)</a:t>
            </a:r>
            <a:endParaRPr b="0" lang="en-US" sz="24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terinary Services (USDA APHIS VS)</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lant Protection and Quarantine (USDA APHIS PPQ)</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otechnology Regulations Services (USDA APHIS BRS)</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ternational Services (USDA APHIS IS)</a:t>
            </a:r>
            <a:endParaRPr b="0" lang="en-US" sz="2000" spc="-1" strike="noStrike">
              <a:solidFill>
                <a:srgbClr val="ffffff"/>
              </a:solidFill>
              <a:latin typeface="Garamond"/>
            </a:endParaRPr>
          </a:p>
        </p:txBody>
      </p:sp>
      <p:sp>
        <p:nvSpPr>
          <p:cNvPr id="211"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ERS 2009b</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15"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ests: weeds, insects, microbes, diseases that negatively affect plants or animals </a:t>
            </a:r>
            <a:endParaRPr b="0" lang="en-US" sz="36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50,000 non-native species in the U.S.</a:t>
            </a:r>
            <a:r>
              <a:rPr b="0" lang="en-US" sz="3200" spc="-1" strike="noStrike" baseline="30000">
                <a:solidFill>
                  <a:srgbClr val="ffff66"/>
                </a:solidFill>
                <a:latin typeface="Times New Roman"/>
              </a:rPr>
              <a:t>1</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ost intentionally introduced &amp; still beneficial</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unintentionally introduced agricultural pest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00 weed spe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00 insect &amp; mite spe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0,000 microbe species  </a:t>
            </a:r>
            <a:endParaRPr b="0" lang="en-US" sz="2400" spc="-1" strike="noStrike">
              <a:solidFill>
                <a:srgbClr val="ffffff"/>
              </a:solidFill>
              <a:latin typeface="Garamond"/>
            </a:endParaRPr>
          </a:p>
        </p:txBody>
      </p:sp>
      <p:sp>
        <p:nvSpPr>
          <p:cNvPr id="116"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imentel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4" name="PlaceHolder 2"/>
          <p:cNvSpPr>
            <a:spLocks noGrp="1"/>
          </p:cNvSpPr>
          <p:nvPr>
            <p:ph/>
          </p:nvPr>
        </p:nvSpPr>
        <p:spPr>
          <a:xfrm>
            <a:off x="457200" y="129528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roles and responsibilities</a:t>
            </a:r>
            <a:endParaRPr b="0" lang="en-US" sz="2800" spc="-1" strike="noStrike">
              <a:solidFill>
                <a:srgbClr val="ffffff"/>
              </a:solidFill>
              <a:latin typeface="Garamond"/>
            </a:endParaRPr>
          </a:p>
          <a:p>
            <a:pPr lvl="3" marL="1200240" indent="0">
              <a:lnSpc>
                <a:spcPct val="10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nitor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clusion</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urveillance</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in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spections</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uarantine</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eatment</a:t>
            </a:r>
            <a:endParaRPr b="0" lang="en-US" sz="2400" spc="-1" strike="noStrike">
              <a:solidFill>
                <a:srgbClr val="ffffff"/>
              </a:solidFill>
              <a:latin typeface="Garamond"/>
            </a:endParaRPr>
          </a:p>
        </p:txBody>
      </p:sp>
      <p:sp>
        <p:nvSpPr>
          <p:cNvPr id="215" name="TextBox 1"/>
          <p:cNvSpPr/>
          <p:nvPr/>
        </p:nvSpPr>
        <p:spPr>
          <a:xfrm>
            <a:off x="4876920" y="2608200"/>
            <a:ext cx="2895480" cy="3554280"/>
          </a:xfrm>
          <a:prstGeom prst="rect">
            <a:avLst/>
          </a:prstGeom>
          <a:noFill/>
          <a:ln w="0">
            <a:noFill/>
          </a:ln>
        </p:spPr>
        <p:style>
          <a:lnRef idx="0"/>
          <a:fillRef idx="0"/>
          <a:effectRef idx="0"/>
          <a:fontRef idx="minor"/>
        </p:style>
        <p:txBody>
          <a:bodyPr lIns="90000" rIns="90000" tIns="46800" bIns="46800" anchor="t">
            <a:spAutoFit/>
          </a:bodyPr>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Management</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Eradic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Compens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SPS negotiation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Risk assessment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Import/export rule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Educ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Outreach</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8" name="PlaceHolder 2"/>
          <p:cNvSpPr>
            <a:spLocks noGrp="1"/>
          </p:cNvSpPr>
          <p:nvPr>
            <p:ph/>
          </p:nvPr>
        </p:nvSpPr>
        <p:spPr>
          <a:xfrm>
            <a:off x="457200" y="1295280"/>
            <a:ext cx="8686800" cy="502920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gricultural inspections at borders &amp; ports of entry</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istorically, USDA APHIS responsible for this task</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2003, Dept of Homeland Security’s Customs and Border Protection (USDHS CBP) took over primary responsibility, although still collaborates with APHIS, particularly PPQ’s Smuggling, Interdiction and Trade Compliance officers </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2007,  joint task force review reveals concerns</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effective joint planning between CBP and APHIS</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 and higher-level staff for agricultural mission</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 agriculture specialists at borders and ports</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y positions filled since then, performance has improved</a:t>
            </a:r>
            <a:r>
              <a:rPr b="0" lang="en-US" sz="2000" spc="-1" strike="noStrike" baseline="30000">
                <a:solidFill>
                  <a:srgbClr val="ffff66"/>
                </a:solidFill>
                <a:latin typeface="Times New Roman"/>
              </a:rPr>
              <a:t>2</a:t>
            </a:r>
            <a:endParaRPr b="0" lang="en-US" sz="2000" spc="-1" strike="noStrike">
              <a:solidFill>
                <a:srgbClr val="ffffff"/>
              </a:solidFill>
              <a:latin typeface="Garamond"/>
            </a:endParaRPr>
          </a:p>
          <a:p>
            <a:pPr lvl="3" marL="1584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9" name="Date Placeholder 3"/>
          <p:cNvSpPr/>
          <p:nvPr/>
        </p:nvSpPr>
        <p:spPr>
          <a:xfrm>
            <a:off x="6172200" y="6381720"/>
            <a:ext cx="312408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HS CBP and USDA APHIS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DHS CBP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22" name="PlaceHolder 2"/>
          <p:cNvSpPr>
            <a:spLocks noGrp="1"/>
          </p:cNvSpPr>
          <p:nvPr>
            <p:ph/>
          </p:nvPr>
        </p:nvSpPr>
        <p:spPr>
          <a:xfrm>
            <a:off x="457200" y="1096920"/>
            <a:ext cx="8686800" cy="5029200"/>
          </a:xfrm>
          <a:prstGeom prst="rect">
            <a:avLst/>
          </a:prstGeom>
          <a:noFill/>
          <a:ln w="0">
            <a:noFill/>
          </a:ln>
        </p:spPr>
        <p:txBody>
          <a:bodyPr anchor="t">
            <a:normAutofit fontScale="95000"/>
          </a:bodyPr>
          <a:p>
            <a:pPr lvl="1"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25800" indent="-3258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Exclusion</a:t>
            </a:r>
            <a:r>
              <a:rPr b="0" lang="en-US" sz="2800" spc="-1" strike="noStrike">
                <a:solidFill>
                  <a:srgbClr val="ffff66"/>
                </a:solidFill>
                <a:latin typeface="Times New Roman"/>
              </a:rPr>
              <a:t>: detect and eliminate pests before they reach U.S. shores.</a:t>
            </a:r>
            <a:endParaRPr b="0" lang="en-US" sz="2800" spc="-1" strike="noStrike">
              <a:solidFill>
                <a:srgbClr val="ffffff"/>
              </a:solidFill>
              <a:latin typeface="Garamond"/>
            </a:endParaRPr>
          </a:p>
          <a:p>
            <a:pPr lvl="1" marL="325800" indent="-3258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HIS programs that strive to help exclude pests:</a:t>
            </a:r>
            <a:endParaRPr b="0" lang="en-US" sz="28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IP (Offshore Pest Information Program)</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nd EPICA (Exotic Pest Information Collection and Analysi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merged</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ffshore agricultural commodity preclearance programs</a:t>
            </a:r>
            <a:r>
              <a:rPr b="0" lang="en-US" sz="2400" spc="-1" strike="noStrike" baseline="30000">
                <a:solidFill>
                  <a:srgbClr val="ffff66"/>
                </a:solidFill>
                <a:latin typeface="Times New Roman"/>
              </a:rPr>
              <a:t>3</a:t>
            </a:r>
            <a:endParaRPr b="0" lang="en-US" sz="2400" spc="-1" strike="noStrike">
              <a:solidFill>
                <a:srgbClr val="ffffff"/>
              </a:solidFill>
              <a:latin typeface="Garamond"/>
            </a:endParaRPr>
          </a:p>
          <a:p>
            <a:pPr lvl="2" marL="1085760" indent="-21708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ather, assess, synthesize info about pests abroad; report through e-newsletters and searchable databases</a:t>
            </a:r>
            <a:endParaRPr b="0" lang="en-US" sz="2800" spc="-1" strike="noStrike">
              <a:solidFill>
                <a:srgbClr val="ffffff"/>
              </a:solidFill>
              <a:latin typeface="Garamond"/>
            </a:endParaRPr>
          </a:p>
          <a:p>
            <a:pPr lvl="2" marL="1085760" indent="-21708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ticipate pests before arrival; create preparedness plans; adjust off/on-shore inspection procedures</a:t>
            </a:r>
            <a:endParaRPr b="0" lang="en-US" sz="2800" spc="-1" strike="noStrike">
              <a:solidFill>
                <a:srgbClr val="ffffff"/>
              </a:solidFill>
              <a:latin typeface="Garamond"/>
            </a:endParaRPr>
          </a:p>
        </p:txBody>
      </p:sp>
      <p:sp>
        <p:nvSpPr>
          <p:cNvPr id="223"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a</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DA APHIS 2010b</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USDA APHIS 2002, 2007</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26" name="PlaceHolder 2"/>
          <p:cNvSpPr>
            <a:spLocks noGrp="1"/>
          </p:cNvSpPr>
          <p:nvPr>
            <p:ph/>
          </p:nvPr>
        </p:nvSpPr>
        <p:spPr>
          <a:xfrm>
            <a:off x="456840" y="1096560"/>
            <a:ext cx="8534520" cy="559908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HIS assists trade partners with pest management </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Releases sterile Mexican fruit flies in northern Mexico to suppress this pest along Texas-Mexico border</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Tracks tropical bont ticks in the Caribbean and assists in eradication efforts to protect southern Florida livestock industry from deadly tick-borne disease ‘heartwater’</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gricultural Research Service (ARS) conducts pest-related research along with APHIS</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Developing biological control agents for yellow starthistle; testing vector competence of N. America mosquitoes for Rift Valley Fever virus; etc…  </a:t>
            </a:r>
            <a:endParaRPr b="0" lang="en-US" sz="2400" spc="-1" strike="noStrike">
              <a:solidFill>
                <a:srgbClr val="ffffff"/>
              </a:solidFill>
              <a:latin typeface="Garamond"/>
            </a:endParaRPr>
          </a:p>
        </p:txBody>
      </p:sp>
      <p:sp>
        <p:nvSpPr>
          <p:cNvPr id="227"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c</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Bram and George 2000</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0"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other federal agencies share responsibility for prevention and control of non-native specie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 </a:t>
            </a:r>
            <a:r>
              <a:rPr b="0" i="1" lang="en-US" sz="2400" spc="-1" strike="noStrike">
                <a:solidFill>
                  <a:srgbClr val="ffff66"/>
                </a:solidFill>
                <a:latin typeface="Times New Roman"/>
              </a:rPr>
              <a:t>many</a:t>
            </a:r>
            <a:r>
              <a:rPr b="0" lang="en-US" sz="2400" spc="-1" strike="noStrike">
                <a:solidFill>
                  <a:srgbClr val="ffff66"/>
                </a:solidFill>
                <a:latin typeface="Times New Roman"/>
              </a:rPr>
              <a:t> agencies that official coordination is necessary</a:t>
            </a:r>
            <a:endParaRPr b="0" lang="en-US" sz="24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ional Invasive Species Council (since 1999)</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presentatives from 13 federal departments or agen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ozens of tasks, such as</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veloping coordinated network among agencies;</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reparing a National Invasive Species Management Plan;</a:t>
            </a:r>
            <a:r>
              <a:rPr b="0" lang="en-US" sz="2000" spc="-1" strike="noStrike" baseline="30000">
                <a:solidFill>
                  <a:srgbClr val="ffff66"/>
                </a:solidFill>
                <a:latin typeface="Times New Roman"/>
              </a:rPr>
              <a:t>3</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mproving U.S. participation in Global Invasive Species Information Network, and Inter-American Biodiversity Information Network</a:t>
            </a:r>
            <a:endParaRPr b="0" lang="en-US" sz="2000" spc="-1" strike="noStrike">
              <a:solidFill>
                <a:srgbClr val="ffffff"/>
              </a:solidFill>
              <a:latin typeface="Garamond"/>
            </a:endParaRPr>
          </a:p>
        </p:txBody>
      </p:sp>
      <p:sp>
        <p:nvSpPr>
          <p:cNvPr id="231"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The White House 1999</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NISC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4"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lp government agencies </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dentify new non-native pest issu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ather data about emerging or existing pest outbreak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velop and test new pest management tools </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sign effective pest prevention &amp; control poli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vey educational materials to relevant audienc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everage funds for research, outreach, control programs</a:t>
            </a:r>
            <a:endParaRPr b="0" lang="en-US" sz="2400" spc="-1" strike="noStrike">
              <a:solidFill>
                <a:srgbClr val="ffffff"/>
              </a:solidFill>
              <a:latin typeface="Garamond"/>
            </a:endParaRPr>
          </a:p>
        </p:txBody>
      </p:sp>
      <p:sp>
        <p:nvSpPr>
          <p:cNvPr id="235"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The White House 1999</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NISC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8" name="PlaceHolder 2"/>
          <p:cNvSpPr>
            <a:spLocks noGrp="1"/>
          </p:cNvSpPr>
          <p:nvPr>
            <p:ph/>
          </p:nvPr>
        </p:nvSpPr>
        <p:spPr>
          <a:xfrm>
            <a:off x="456840" y="1020600"/>
            <a:ext cx="8534520" cy="559944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t>
            </a:r>
            <a:r>
              <a:rPr b="0" lang="en-US" sz="2800" spc="-1" strike="noStrike" u="sng">
                <a:solidFill>
                  <a:srgbClr val="ffff66"/>
                </a:solidFill>
                <a:uFillTx/>
                <a:latin typeface="Times New Roman"/>
              </a:rPr>
              <a:t>Cooperative Agricultural Pest Survey</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CAPS’ is a national program that surveys, identifies, monitors and prioritizes over 400 plant pests</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artners within the industry, universities, state agencies collect climatic, environmental and pest data; upload to state databases and transfer to National Agricultural Pest Information System</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elps APHIS detect and respond to new pests quickly, and determine which locations require quarantine</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elps inform NAPPFAST, a computer model that predicts when/where pest incursion might occur, and which pests should be a priority that year</a:t>
            </a:r>
            <a:r>
              <a:rPr b="0" lang="en-US" sz="2400" spc="-1" strike="noStrike" baseline="30000">
                <a:solidFill>
                  <a:srgbClr val="ffff66"/>
                </a:solidFill>
                <a:latin typeface="Times New Roman"/>
              </a:rPr>
              <a:t>2,3</a:t>
            </a:r>
            <a:endParaRPr b="0" lang="en-US" sz="2400" spc="-1" strike="noStrike">
              <a:solidFill>
                <a:srgbClr val="ffffff"/>
              </a:solidFill>
              <a:latin typeface="Garamond"/>
            </a:endParaRPr>
          </a:p>
        </p:txBody>
      </p:sp>
      <p:sp>
        <p:nvSpPr>
          <p:cNvPr id="239"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05</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Magarey et al.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CAPS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42"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United Central Soybean Board</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monitoring system for soybean rust</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undreds of sentinel soybean plots around country managed specifically for detection of soybean rust</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eaf samples sent regularly to university labs for testing</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results made available to public through IPM PIPE website, in form of weekly maps of confirmed cas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ybean producers can sign up for automatic email alerts when rust is detected in their region</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lso developed a model to predict weekly spread of rust based on atmospheric forecasts</a:t>
            </a:r>
            <a:endParaRPr b="0" lang="en-US" sz="2400" spc="-1" strike="noStrike">
              <a:solidFill>
                <a:srgbClr val="ffffff"/>
              </a:solidFill>
              <a:latin typeface="Garamond"/>
            </a:endParaRPr>
          </a:p>
        </p:txBody>
      </p:sp>
      <p:sp>
        <p:nvSpPr>
          <p:cNvPr id="243"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Aultman et al. 2010</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46"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livestock producer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Animal Health Monitoring System</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vey of animal disease and health management practices</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Poultry Improvement Plan</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stablishes disease evaluations standards for poultry industry</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acilitate trade by administering certification system for pullorum and avian influenza</a:t>
            </a:r>
            <a:r>
              <a:rPr b="0" lang="en-US" sz="2000" spc="-1" strike="noStrike" baseline="30000">
                <a:solidFill>
                  <a:srgbClr val="ffff66"/>
                </a:solidFill>
                <a:latin typeface="Times New Roman"/>
              </a:rPr>
              <a:t>3</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oluntary Trichinae Certification Program for pork</a:t>
            </a:r>
            <a:r>
              <a:rPr b="0" lang="en-US" sz="2400" spc="-1" strike="noStrike" baseline="30000">
                <a:solidFill>
                  <a:srgbClr val="ffff66"/>
                </a:solidFill>
                <a:latin typeface="Times New Roman"/>
              </a:rPr>
              <a:t>4</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richinella </a:t>
            </a:r>
            <a:r>
              <a:rPr b="0" lang="en-US" sz="2000" spc="-1" strike="noStrike">
                <a:solidFill>
                  <a:srgbClr val="ffff66"/>
                </a:solidFill>
                <a:latin typeface="Times New Roman"/>
              </a:rPr>
              <a:t>spp. are parasitic roundworms transmitted from swine to human through infected meat not properly frozen or prepared</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S. pork industry hopes to replace mandatory testing of all fresh pork before exporting with certification program</a:t>
            </a:r>
            <a:endParaRPr b="0" lang="en-US" sz="2000" spc="-1" strike="noStrike">
              <a:solidFill>
                <a:srgbClr val="ffffff"/>
              </a:solidFill>
              <a:latin typeface="Garamond"/>
            </a:endParaRPr>
          </a:p>
        </p:txBody>
      </p:sp>
      <p:sp>
        <p:nvSpPr>
          <p:cNvPr id="247" name="Date Placeholder 3"/>
          <p:cNvSpPr/>
          <p:nvPr/>
        </p:nvSpPr>
        <p:spPr>
          <a:xfrm>
            <a:off x="73915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d</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Rhorer 2004</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Hall 2004</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4 </a:t>
            </a:r>
            <a:r>
              <a:rPr b="0" lang="en-US" sz="1200" spc="-1" strike="noStrike">
                <a:solidFill>
                  <a:srgbClr val="ffffff"/>
                </a:solidFill>
                <a:latin typeface="Arial"/>
              </a:rPr>
              <a:t>Pyburn 2003</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Date Placeholder 3"/>
          <p:cNvSpPr/>
          <p:nvPr/>
        </p:nvSpPr>
        <p:spPr>
          <a:xfrm>
            <a:off x="457200" y="64008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50" name="PlaceHolder 2"/>
          <p:cNvSpPr>
            <a:spLocks noGrp="1"/>
          </p:cNvSpPr>
          <p:nvPr>
            <p:ph/>
          </p:nvPr>
        </p:nvSpPr>
        <p:spPr>
          <a:xfrm>
            <a:off x="456840" y="944280"/>
            <a:ext cx="8534520" cy="559908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state agencies</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st-sharing for producers who adopt pest mgmt. practices</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ttle producers in Greater Yellowstone Area receive free testing and subsidized adult-booster vaccination for bovine brucellosis</a:t>
            </a:r>
            <a:r>
              <a:rPr b="0" lang="en-US" sz="2000" spc="-1" strike="noStrike" baseline="30000">
                <a:solidFill>
                  <a:srgbClr val="ffff66"/>
                </a:solidFill>
                <a:latin typeface="Times New Roman"/>
              </a:rPr>
              <a:t>1</a:t>
            </a:r>
            <a:r>
              <a:rPr b="0" lang="en-US" sz="2000" spc="-1" strike="noStrike">
                <a:solidFill>
                  <a:srgbClr val="ffff66"/>
                </a:solidFill>
                <a:latin typeface="Times New Roman"/>
              </a:rPr>
              <a:t>  </a:t>
            </a:r>
            <a:endParaRPr b="0" lang="en-US" sz="20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for crops or livestock destroyed during pest eradication campaigns</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citrus canker, karnal bunt, plum pox, Newcastle disease</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ncourages producers to report pest outbreaks, not conceal them</a:t>
            </a:r>
            <a:r>
              <a:rPr b="0" lang="en-US" sz="2000" spc="-1" strike="noStrike" baseline="30000">
                <a:solidFill>
                  <a:srgbClr val="ffff66"/>
                </a:solidFill>
                <a:latin typeface="Times New Roman"/>
              </a:rPr>
              <a:t>1</a:t>
            </a:r>
            <a:endParaRPr b="0" lang="en-US" sz="20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Geological Survey Biological Informatics Office; World Conservation Union; universities, etc.</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ointly created the ‘Invasive Species Information Node’</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ngle web portal for non-native pest information</a:t>
            </a:r>
            <a:endParaRPr b="0" lang="en-US" sz="2000" spc="-1" strike="noStrike">
              <a:solidFill>
                <a:srgbClr val="ffffff"/>
              </a:solidFill>
              <a:latin typeface="Garamond"/>
            </a:endParaRPr>
          </a:p>
          <a:p>
            <a:pPr lvl="2" marL="1131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51" name="Date Placeholder 3"/>
          <p:cNvSpPr/>
          <p:nvPr/>
        </p:nvSpPr>
        <p:spPr>
          <a:xfrm>
            <a:off x="7391520" y="640080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eck 2010</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NBII 200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Agricultural plants and animals’ defenses may be weaker against non-native pests</a:t>
            </a:r>
            <a:endParaRPr b="0" lang="en-US" sz="3600" spc="-1" strike="noStrike">
              <a:solidFill>
                <a:srgbClr val="ffffff"/>
              </a:solidFill>
              <a:latin typeface="Garamond"/>
            </a:endParaRPr>
          </a:p>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t may be more difficult for managers to identify and control non-native pests</a:t>
            </a:r>
            <a:endParaRPr b="0" lang="en-US" sz="3600" spc="-1" strike="noStrike">
              <a:solidFill>
                <a:srgbClr val="ffffff"/>
              </a:solidFill>
              <a:latin typeface="Garamond"/>
            </a:endParaRPr>
          </a:p>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Once established, difficult to eradicate</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exican fruit fly </a:t>
            </a:r>
            <a:endParaRPr b="0" lang="en-US" sz="28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erald ash borer</a:t>
            </a:r>
            <a:endParaRPr b="0" lang="en-US" sz="28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yleaf basketgrass </a:t>
            </a:r>
            <a:endParaRPr b="0" lang="en-US" sz="2800" spc="-1" strike="noStrike">
              <a:solidFill>
                <a:srgbClr val="ffffff"/>
              </a:solidFill>
              <a:latin typeface="Garamond"/>
            </a:endParaRPr>
          </a:p>
        </p:txBody>
      </p:sp>
      <p:sp>
        <p:nvSpPr>
          <p:cNvPr id="120" name="TextBox 4"/>
          <p:cNvSpPr/>
          <p:nvPr/>
        </p:nvSpPr>
        <p:spPr>
          <a:xfrm>
            <a:off x="4739040" y="4648320"/>
            <a:ext cx="3413520" cy="1551600"/>
          </a:xfrm>
          <a:prstGeom prst="rect">
            <a:avLst/>
          </a:prstGeom>
          <a:noFill/>
          <a:ln w="0">
            <a:noFill/>
          </a:ln>
        </p:spPr>
        <p:style>
          <a:lnRef idx="0"/>
          <a:fillRef idx="0"/>
          <a:effectRef idx="0"/>
          <a:fontRef idx="minor"/>
        </p:style>
        <p:txBody>
          <a:bodyPr wrap="none" lIns="90000" rIns="90000" tIns="46800" bIns="46800" anchor="t">
            <a:spAutoFit/>
          </a:bodyPr>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Citrus canker</a:t>
            </a:r>
            <a:endParaRPr b="0" lang="en-US" sz="2800" spc="-1" strike="noStrike">
              <a:solidFill>
                <a:srgbClr val="ffcc00"/>
              </a:solidFill>
              <a:latin typeface="Times New Roman"/>
            </a:endParaRPr>
          </a:p>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Soybean rust</a:t>
            </a:r>
            <a:endParaRPr b="0" lang="en-US" sz="2800" spc="-1" strike="noStrike">
              <a:solidFill>
                <a:srgbClr val="ffcc00"/>
              </a:solidFill>
              <a:latin typeface="Times New Roman"/>
            </a:endParaRPr>
          </a:p>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Bovine tuberculosis</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Date Placeholder 3"/>
          <p:cNvSpPr/>
          <p:nvPr/>
        </p:nvSpPr>
        <p:spPr>
          <a:xfrm>
            <a:off x="457200" y="64008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3" name="PlaceHolder 1"/>
          <p:cNvSpPr>
            <a:spLocks noGrp="1"/>
          </p:cNvSpPr>
          <p:nvPr>
            <p:ph type="title"/>
          </p:nvPr>
        </p:nvSpPr>
        <p:spPr>
          <a:xfrm>
            <a:off x="457200" y="1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54" name="PlaceHolder 2"/>
          <p:cNvSpPr>
            <a:spLocks noGrp="1"/>
          </p:cNvSpPr>
          <p:nvPr>
            <p:ph/>
          </p:nvPr>
        </p:nvSpPr>
        <p:spPr>
          <a:xfrm>
            <a:off x="456840" y="14871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our performance criteria of interest</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Technical efficiency</a:t>
            </a:r>
            <a:r>
              <a:rPr b="0" lang="en-US" sz="2800" spc="-1" strike="noStrike">
                <a:solidFill>
                  <a:srgbClr val="ffff66"/>
                </a:solidFill>
                <a:latin typeface="Times New Roman"/>
              </a:rPr>
              <a:t>: maximum output is achieved from a given set of input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Allocative efficiency</a:t>
            </a:r>
            <a:r>
              <a:rPr b="0" lang="en-US" sz="2800" spc="-1" strike="noStrike">
                <a:solidFill>
                  <a:srgbClr val="ffff66"/>
                </a:solidFill>
                <a:latin typeface="Times New Roman"/>
              </a:rPr>
              <a:t>: inputs are allocated to the socially-optimal bundle of output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Dynamic efficiency</a:t>
            </a:r>
            <a:r>
              <a:rPr b="0" lang="en-US" sz="2800" spc="-1" strike="noStrike">
                <a:solidFill>
                  <a:srgbClr val="ffff66"/>
                </a:solidFill>
                <a:latin typeface="Times New Roman"/>
              </a:rPr>
              <a:t>: markets readily adapt to changing condition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market beneficial outcomes</a:t>
            </a:r>
            <a:r>
              <a:rPr b="0" lang="en-US" sz="2800" spc="-1" strike="noStrike">
                <a:solidFill>
                  <a:srgbClr val="ffff66"/>
                </a:solidFill>
                <a:latin typeface="Times New Roman"/>
              </a:rPr>
              <a:t>: achieve societal goals, such as social justice, animal welfare, human nutrition and health </a:t>
            </a:r>
            <a:endParaRPr b="0" lang="en-US" sz="2800" spc="-1" strike="noStrike">
              <a:solidFill>
                <a:srgbClr val="ffffff"/>
              </a:solidFill>
              <a:latin typeface="Garamond"/>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57"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Recall circumstances where government intervention might be appropriate:</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Externalities</a:t>
            </a:r>
            <a:r>
              <a:rPr b="0" lang="en-US" sz="2800" spc="-1" strike="noStrike">
                <a:solidFill>
                  <a:srgbClr val="ffff66"/>
                </a:solidFill>
                <a:latin typeface="Times New Roman"/>
              </a:rPr>
              <a:t> &amp; </a:t>
            </a:r>
            <a:r>
              <a:rPr b="0" lang="en-US" sz="2800" spc="-1" strike="noStrike" u="sng">
                <a:solidFill>
                  <a:srgbClr val="ffff66"/>
                </a:solidFill>
                <a:uFillTx/>
                <a:latin typeface="Times New Roman"/>
              </a:rPr>
              <a:t>public goods</a:t>
            </a:r>
            <a:r>
              <a:rPr b="0" lang="en-US" sz="2800" spc="-1" strike="noStrike">
                <a:solidFill>
                  <a:srgbClr val="ffff66"/>
                </a:solidFill>
                <a:latin typeface="Times New Roman"/>
              </a:rPr>
              <a:t> prevent free markets from achieving socially-efficient levels of non-native pest prevention/control</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Imperfect information</a:t>
            </a:r>
            <a:r>
              <a:rPr b="0" lang="en-US" sz="2800" spc="-1" strike="noStrike">
                <a:solidFill>
                  <a:srgbClr val="ffff66"/>
                </a:solidFill>
                <a:latin typeface="Times New Roman"/>
              </a:rPr>
              <a:t> reduces the amount of social welfare generated by socially-efficient levels of pest prevention/control</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Only intervene if one of these issues exist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0" name="PlaceHolder 2"/>
          <p:cNvSpPr>
            <a:spLocks noGrp="1"/>
          </p:cNvSpPr>
          <p:nvPr>
            <p:ph/>
          </p:nvPr>
        </p:nvSpPr>
        <p:spPr>
          <a:xfrm>
            <a:off x="456840" y="15998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TO Sanitary and Phytosanitary Agreement</a:t>
            </a:r>
            <a:endParaRPr b="0" lang="en-US" sz="2800" spc="-1" strike="noStrike">
              <a:solidFill>
                <a:srgbClr val="ffffff"/>
              </a:solidFill>
              <a:latin typeface="Garamond"/>
            </a:endParaRPr>
          </a:p>
          <a:p>
            <a:pPr lvl="2" marL="1119960" indent="-223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rket failures it addresses:</a:t>
            </a:r>
            <a:endParaRPr b="0" lang="en-US" sz="24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gative externalities countries might impose on trade partners by exporting too many contaminated goods, or by using SPS standards as non-tariff barriers to trade  </a:t>
            </a:r>
            <a:endParaRPr b="0" lang="en-US" sz="20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nder-provision of public goods, such as prevention/control</a:t>
            </a:r>
            <a:endParaRPr b="0" lang="en-US" sz="20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mperfect information about pests’ biology, locations, abundance</a:t>
            </a:r>
            <a:endParaRPr b="0" lang="en-US" sz="20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s </a:t>
            </a:r>
            <a:r>
              <a:rPr b="0" i="1" lang="en-US" sz="2400" spc="-1" strike="noStrike">
                <a:solidFill>
                  <a:srgbClr val="ffff66"/>
                </a:solidFill>
                <a:latin typeface="Times New Roman"/>
              </a:rPr>
              <a:t>technical</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a:t>
            </a:r>
            <a:r>
              <a:rPr b="0" i="1" lang="en-US" sz="2400" spc="-1" strike="noStrike">
                <a:solidFill>
                  <a:srgbClr val="ffff66"/>
                </a:solidFill>
                <a:latin typeface="Times New Roman"/>
              </a:rPr>
              <a:t>dynamic</a:t>
            </a:r>
            <a:r>
              <a:rPr b="0" lang="en-US" sz="2400" spc="-1" strike="noStrike">
                <a:solidFill>
                  <a:srgbClr val="ffff66"/>
                </a:solidFill>
                <a:latin typeface="Times New Roman"/>
              </a:rPr>
              <a:t> efficiency by promoting information exchange, strengthening pest prevention/control infrastructure in developing countries, removing unfair trade barriers, making supply of ag goods </a:t>
            </a:r>
            <a:r>
              <a:rPr b="0" lang="en-US" sz="2400" spc="-1" strike="noStrike">
                <a:solidFill>
                  <a:srgbClr val="ffff66"/>
                </a:solidFill>
                <a:latin typeface="Times New Roman"/>
              </a:rPr>
              <a:t>	</a:t>
            </a:r>
            <a:r>
              <a:rPr b="0" lang="en-US" sz="2400" spc="-1" strike="noStrike">
                <a:solidFill>
                  <a:srgbClr val="ffff66"/>
                </a:solidFill>
                <a:latin typeface="Times New Roman"/>
              </a:rPr>
              <a:t>     more globally-available and spatially-flexibl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3"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Tools for meeting SPS standard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Regionalization</a:t>
            </a:r>
            <a:r>
              <a:rPr b="0" lang="en-US" sz="2800" spc="-1" strike="noStrike" baseline="30000">
                <a:solidFill>
                  <a:srgbClr val="ffff66"/>
                </a:solidFill>
                <a:latin typeface="Times New Roman"/>
              </a:rPr>
              <a:t>1</a:t>
            </a:r>
            <a:r>
              <a:rPr b="0" lang="en-US" sz="2800" spc="-1" strike="noStrike">
                <a:solidFill>
                  <a:srgbClr val="ffff66"/>
                </a:solidFill>
                <a:latin typeface="Times New Roman"/>
              </a:rPr>
              <a:t>: draws a boundary around a pest-infested region that is geographically-isolated from pest-free regions, and applies trade restrictions only to them (e.g., foot and mouth disease in S. Africa</a:t>
            </a:r>
            <a:r>
              <a:rPr b="0" lang="en-US" sz="2800" spc="-1" strike="noStrike" baseline="30000">
                <a:solidFill>
                  <a:srgbClr val="ffff66"/>
                </a:solidFill>
                <a:latin typeface="Times New Roman"/>
              </a:rPr>
              <a:t>2</a:t>
            </a:r>
            <a:r>
              <a:rPr b="0" lang="en-US" sz="2800" spc="-1" strike="noStrike">
                <a:solidFill>
                  <a:srgbClr val="ffff66"/>
                </a:solidFill>
                <a:latin typeface="Times New Roman"/>
              </a:rPr>
              <a:t>)</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mpartmentalization</a:t>
            </a:r>
            <a:r>
              <a:rPr b="0" lang="en-US" sz="2800" spc="-1" strike="noStrike" baseline="30000">
                <a:solidFill>
                  <a:srgbClr val="ffff66"/>
                </a:solidFill>
                <a:latin typeface="Times New Roman"/>
              </a:rPr>
              <a:t>3</a:t>
            </a:r>
            <a:r>
              <a:rPr b="0" lang="en-US" sz="2800" spc="-1" strike="noStrike">
                <a:solidFill>
                  <a:srgbClr val="ffff66"/>
                </a:solidFill>
                <a:latin typeface="Times New Roman"/>
              </a:rPr>
              <a:t>: isolates pest-free subpops. from those with pests using biosecurity measures (e.g., commercial vs. backyard poultry in U.S.)</a:t>
            </a:r>
            <a:r>
              <a:rPr b="0" lang="en-US" sz="2800" spc="-1" strike="noStrike" baseline="30000">
                <a:solidFill>
                  <a:srgbClr val="ffff66"/>
                </a:solidFill>
                <a:latin typeface="Times New Roman"/>
              </a:rPr>
              <a:t>4</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mmodity-based trade</a:t>
            </a:r>
            <a:r>
              <a:rPr b="0" lang="en-US" sz="2800" spc="-1" strike="noStrike" baseline="30000">
                <a:solidFill>
                  <a:srgbClr val="ffff66"/>
                </a:solidFill>
                <a:latin typeface="Times New Roman"/>
              </a:rPr>
              <a:t>5</a:t>
            </a:r>
            <a:r>
              <a:rPr b="0" lang="en-US" sz="2800" spc="-1" strike="noStrike">
                <a:solidFill>
                  <a:srgbClr val="ffff66"/>
                </a:solidFill>
                <a:latin typeface="Times New Roman"/>
              </a:rPr>
              <a:t>: trade allowed if product is processed in a way that eliminates risk,                                  </a:t>
            </a:r>
            <a:r>
              <a:rPr b="0" lang="en-US" sz="2800" spc="-1" strike="noStrike">
                <a:solidFill>
                  <a:srgbClr val="ffff66"/>
                </a:solidFill>
                <a:latin typeface="Times New Roman"/>
              </a:rPr>
              <a:t>	</a:t>
            </a:r>
            <a:r>
              <a:rPr b="0" lang="en-US" sz="2800" spc="-1" strike="noStrike">
                <a:solidFill>
                  <a:srgbClr val="ffff66"/>
                </a:solidFill>
                <a:latin typeface="Times New Roman"/>
              </a:rPr>
              <a:t>             even if from a diseased area</a:t>
            </a:r>
            <a:endParaRPr b="0" lang="en-US" sz="2800" spc="-1" strike="noStrike">
              <a:solidFill>
                <a:srgbClr val="ffffff"/>
              </a:solidFill>
              <a:latin typeface="Garamond"/>
            </a:endParaRPr>
          </a:p>
        </p:txBody>
      </p:sp>
      <p:sp>
        <p:nvSpPr>
          <p:cNvPr id="264" name="Date Placeholder 3"/>
          <p:cNvSpPr/>
          <p:nvPr/>
        </p:nvSpPr>
        <p:spPr>
          <a:xfrm>
            <a:off x="7162920" y="640080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Livingstone et al. 2006</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Bruckner et al. 2002</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Gemmeke et al.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4 </a:t>
            </a:r>
            <a:r>
              <a:rPr b="0" lang="en-US" sz="1200" spc="-1" strike="noStrike">
                <a:solidFill>
                  <a:srgbClr val="ffffff"/>
                </a:solidFill>
                <a:latin typeface="Arial"/>
              </a:rPr>
              <a:t>Garber et al.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5 </a:t>
            </a:r>
            <a:r>
              <a:rPr b="0" lang="en-US" sz="1200" spc="-1" strike="noStrike">
                <a:solidFill>
                  <a:srgbClr val="ffffff"/>
                </a:solidFill>
                <a:latin typeface="Arial"/>
              </a:rPr>
              <a:t>Rich et al.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7" name="PlaceHolder 2"/>
          <p:cNvSpPr>
            <a:spLocks noGrp="1"/>
          </p:cNvSpPr>
          <p:nvPr>
            <p:ph/>
          </p:nvPr>
        </p:nvSpPr>
        <p:spPr>
          <a:xfrm>
            <a:off x="456840" y="1599840"/>
            <a:ext cx="8534520" cy="5257800"/>
          </a:xfrm>
          <a:prstGeom prst="rect">
            <a:avLst/>
          </a:prstGeom>
          <a:noFill/>
          <a:ln w="0">
            <a:noFill/>
          </a:ln>
        </p:spPr>
        <p:txBody>
          <a:bodyPr anchor="t">
            <a:normAutofit fontScale="94000"/>
          </a:bodyPr>
          <a:p>
            <a:pPr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1" marL="698400" indent="-2685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gionalization, Compartmentalization, and Commodity-based trade</a:t>
            </a:r>
            <a:endParaRPr b="0" lang="en-US" sz="28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global markets by reducing foregone trade opportunities necessary to keep importing countries pest-free </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hance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by allowing companies whose products are pest-free to sell to highest valued use</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crease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of SPS Agreement by enabling pest-infested areas’ boundaries to change easily</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ffects </a:t>
            </a:r>
            <a:r>
              <a:rPr b="0" i="1" lang="en-US" sz="2400" spc="-1" strike="noStrike">
                <a:solidFill>
                  <a:srgbClr val="ffff66"/>
                </a:solidFill>
                <a:latin typeface="Times New Roman"/>
              </a:rPr>
              <a:t>nonmarket beneficial outcomes</a:t>
            </a:r>
            <a:r>
              <a:rPr b="0" lang="en-US" sz="2400" spc="-1" strike="noStrike">
                <a:solidFill>
                  <a:srgbClr val="ffff66"/>
                </a:solidFill>
                <a:latin typeface="Times New Roman"/>
              </a:rPr>
              <a:t> (e.g., animal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welfare)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disease, but perhap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confinemen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Date Placeholder 3"/>
          <p:cNvSpPr/>
          <p:nvPr/>
        </p:nvSpPr>
        <p:spPr>
          <a:xfrm>
            <a:off x="457200" y="63244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0"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agriculture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mount of herbicides, pesticides needed to fight non-native pest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hance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of inspections market by providing an otherwise under-provided public good, and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negative externalities from pests in imported good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crease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of pest control by detecting pests before they invade, triggering preparedness pla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3"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nsition of responsibility from APHIS to Dept of Homeland Security </a:t>
            </a:r>
            <a:r>
              <a:rPr b="0" i="1" lang="en-US" sz="2400" spc="-1" strike="noStrike">
                <a:solidFill>
                  <a:srgbClr val="ffff66"/>
                </a:solidFill>
                <a:latin typeface="Times New Roman"/>
              </a:rPr>
              <a:t>technically</a:t>
            </a:r>
            <a:r>
              <a:rPr b="0" lang="en-US" sz="2400" spc="-1" strike="noStrike">
                <a:solidFill>
                  <a:srgbClr val="ffff66"/>
                </a:solidFill>
                <a:latin typeface="Times New Roman"/>
              </a:rPr>
              <a:t> efficient?</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stoms and Border Protection employees needed special training for detecting non-native pests. Did this use more resources for the same task APHIS was doing pretty well before?</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Reviews of CBP’s ag inspection services reveal shortcomings</a:t>
            </a:r>
            <a:r>
              <a:rPr b="0" lang="en-US" sz="2000" spc="-1" strike="noStrike" baseline="30000">
                <a:solidFill>
                  <a:srgbClr val="ffff66"/>
                </a:solidFill>
                <a:latin typeface="Times New Roman"/>
              </a:rPr>
              <a:t>1,2</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re inspection services </a:t>
            </a:r>
            <a:r>
              <a:rPr b="0" i="1" lang="en-US" sz="2400" spc="-1" strike="noStrike">
                <a:solidFill>
                  <a:srgbClr val="ffff66"/>
                </a:solidFill>
                <a:latin typeface="Times New Roman"/>
              </a:rPr>
              <a:t>dynamically</a:t>
            </a:r>
            <a:r>
              <a:rPr b="0" lang="en-US" sz="2400" spc="-1" strike="noStrike">
                <a:solidFill>
                  <a:srgbClr val="ffff66"/>
                </a:solidFill>
                <a:latin typeface="Times New Roman"/>
              </a:rPr>
              <a:t> efficient?</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ow quickly do they adapt to changing trade flows, pest threats?</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reening technologies need to be quicker and more accurate</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Risk models to identify highest-risk shipments (under      changing climate and trade patterns)</a:t>
            </a:r>
            <a:r>
              <a:rPr b="0" lang="en-US" sz="2000" spc="-1" strike="noStrike" baseline="30000">
                <a:solidFill>
                  <a:srgbClr val="ffff66"/>
                </a:solidFill>
                <a:latin typeface="Times New Roman"/>
              </a:rPr>
              <a:t>3</a:t>
            </a:r>
            <a:r>
              <a:rPr b="0" lang="en-US" sz="2000" spc="-1" strike="noStrike">
                <a:solidFill>
                  <a:srgbClr val="ffff66"/>
                </a:solidFill>
                <a:latin typeface="Times New Roman"/>
              </a:rPr>
              <a:t>  </a:t>
            </a:r>
            <a:endParaRPr b="0" lang="en-US" sz="2000" spc="-1" strike="noStrike">
              <a:solidFill>
                <a:srgbClr val="ffffff"/>
              </a:solidFill>
              <a:latin typeface="Garamond"/>
            </a:endParaRPr>
          </a:p>
        </p:txBody>
      </p:sp>
      <p:sp>
        <p:nvSpPr>
          <p:cNvPr id="274" name="Date Placeholder 3"/>
          <p:cNvSpPr/>
          <p:nvPr/>
        </p:nvSpPr>
        <p:spPr>
          <a:xfrm>
            <a:off x="7467480" y="6458040"/>
            <a:ext cx="259092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HS OIG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GAO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USDA APHIS 2010b</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7"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llaborative Research and Data Collec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est surveillance, reporting, research often public goods, so markets under-provide them. Public-private research &amp; data collection mitigate this, an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search and data lead to more effective pest prevention &amp; control techniques. Thi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pest control (assuming benefits of gaining information &gt; costs).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search and data also leads to quicker discovery of emerging pest outbreaks, greater responsiveness, and thu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0"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ordination</a:t>
            </a:r>
            <a:r>
              <a:rPr b="0" lang="en-US" sz="2800" spc="-1" strike="noStrike">
                <a:solidFill>
                  <a:srgbClr val="ffff66"/>
                </a:solidFill>
                <a:latin typeface="Times New Roman"/>
              </a:rPr>
              <a:t> of Research and Data Collec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Invasive Species Council, Invasive Species Information Node, etc., reduce redundancy in research and data collection efforts,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them (assuming cost of coordination &lt; benefit of coordination).</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ordination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data sharing, faster access to new information, which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ordination increases net benefits from limited research and data collection funds. Conserved dollars can be redirected to other projects,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3" name="PlaceHolder 2"/>
          <p:cNvSpPr>
            <a:spLocks noGrp="1"/>
          </p:cNvSpPr>
          <p:nvPr>
            <p:ph/>
          </p:nvPr>
        </p:nvSpPr>
        <p:spPr>
          <a:xfrm>
            <a:off x="456840" y="1447560"/>
            <a:ext cx="8534520" cy="525780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13160" indent="-27432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ertification Programs</a:t>
            </a:r>
            <a:endParaRPr b="0" lang="en-US" sz="28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egative externalities occur at the farm level because individual producers do not always consider the benefits and costs to others of their private pest-related decisions.</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rtification creates new marketing opportunities for producers who adopt best management practices. Thi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private benefit of pest prevention/control, thu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producer willingness to invest (moves closer to social optimal), an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 of pest prevention/control. </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aises producer awareness/knowledge,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pest prevention/control.  Beware of counter-   </a:t>
            </a:r>
            <a:r>
              <a:rPr b="0" lang="en-US" sz="2400" spc="-1" strike="noStrike">
                <a:solidFill>
                  <a:srgbClr val="ffff66"/>
                </a:solidFill>
                <a:latin typeface="Times New Roman"/>
              </a:rPr>
              <a:t>	</a:t>
            </a:r>
            <a:r>
              <a:rPr b="0" lang="en-US" sz="2400" spc="-1" strike="noStrike">
                <a:solidFill>
                  <a:srgbClr val="ffff66"/>
                </a:solidFill>
                <a:latin typeface="Times New Roman"/>
              </a:rPr>
              <a:t>      fit certificates though, which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efficiency-gain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23"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 Department of Agriculture Animal and Plant Health Inspection Service (USDA APHIS) invests ~$1 billion/year in non-native pest prevention &amp; control; other agencies and producers invest ~$14.5 billion/year</a:t>
            </a:r>
            <a:endParaRPr b="0" lang="en-US" sz="3200" spc="-1" strike="noStrike">
              <a:solidFill>
                <a:srgbClr val="ffffff"/>
              </a:solidFill>
              <a:latin typeface="Garamond"/>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 agricultural producers still lose at least $98.7 billion to non-native pests each year</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p:txBody>
      </p:sp>
      <p:sp>
        <p:nvSpPr>
          <p:cNvPr id="124"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imentel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6" name="PlaceHolder 2"/>
          <p:cNvSpPr>
            <a:spLocks noGrp="1"/>
          </p:cNvSpPr>
          <p:nvPr>
            <p:ph/>
          </p:nvPr>
        </p:nvSpPr>
        <p:spPr>
          <a:xfrm>
            <a:off x="456840" y="1447560"/>
            <a:ext cx="8534520" cy="525780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13160" indent="-27432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ertification Programs</a:t>
            </a:r>
            <a:endParaRPr b="0" lang="en-US" sz="28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lationships built between agencies and industries during creation of certification programs lead to long-term communication. As new diseases emerge, framework already exists for industries to communicate quickly to agencies, and adapt certification program to tackle them. Certification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a:t>
            </a:r>
            <a:r>
              <a:rPr b="0" lang="en-US" sz="2400" spc="-1" strike="noStrike">
                <a:solidFill>
                  <a:srgbClr val="ffff66"/>
                </a:solidFill>
                <a:latin typeface="Times New Roman"/>
              </a:rPr>
              <a:t> efficiency of prevention/control.</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National Poultry Improvement Project originally developed to address pullorum disease – successful.    Now used to tackle avian influenza &amp; salmonella.</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disease incidence improves animal health (maybe </a:t>
            </a:r>
            <a:r>
              <a:rPr b="0" lang="en-US" sz="2400" spc="-1" strike="noStrike">
                <a:solidFill>
                  <a:srgbClr val="ffff66"/>
                </a:solidFill>
                <a:latin typeface="Times New Roman"/>
              </a:rPr>
              <a:t>	</a:t>
            </a:r>
            <a:r>
              <a:rPr b="0" lang="en-US" sz="2400" spc="-1" strike="noStrike">
                <a:solidFill>
                  <a:srgbClr val="ffff66"/>
                </a:solidFill>
                <a:latin typeface="Times New Roman"/>
              </a:rPr>
              <a:t>human health too),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9" name="PlaceHolder 2"/>
          <p:cNvSpPr>
            <a:spLocks noGrp="1"/>
          </p:cNvSpPr>
          <p:nvPr>
            <p:ph/>
          </p:nvPr>
        </p:nvSpPr>
        <p:spPr>
          <a:xfrm>
            <a:off x="456840" y="144756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ternalities result in under-reporting of pest outbreaks, and under-adoption of pest prevention/control activitie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for crops or livestock that are destroyed during eradication campaigns increases private benefit of reporting (unfortunately, it might also decrease private incentives for pest prevention). Cost-sharing for best management practices decreases private cost of adoption.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 these gaps between private versus social benefits and cost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of pest reporting and prevention/control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92" name="PlaceHolder 2"/>
          <p:cNvSpPr>
            <a:spLocks noGrp="1"/>
          </p:cNvSpPr>
          <p:nvPr>
            <p:ph/>
          </p:nvPr>
        </p:nvSpPr>
        <p:spPr>
          <a:xfrm>
            <a:off x="456840" y="1447560"/>
            <a:ext cx="8534520" cy="52578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35480" indent="-282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ve questionable impacts on </a:t>
            </a:r>
            <a:r>
              <a:rPr b="0" i="1" lang="en-US" sz="2400" spc="-1" strike="noStrike">
                <a:solidFill>
                  <a:srgbClr val="ffff66"/>
                </a:solidFill>
                <a:latin typeface="Times New Roman"/>
              </a:rPr>
              <a:t>nonmarket outcomes</a:t>
            </a:r>
            <a:r>
              <a:rPr b="0" lang="en-US" sz="2400" spc="-1" strike="noStrike">
                <a:solidFill>
                  <a:srgbClr val="ffff66"/>
                </a:solidFill>
                <a:latin typeface="Times New Roman"/>
              </a:rPr>
              <a:t>.</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axpayer dollars often used to fund compensation &amp; cost-sharing programs, but benefits accrue most directly to agricultural producers. Is this equitable?</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pest prevention/control activities harm other members of society. Is this social injustice? </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Exotic Newcastle disease outbreak in California. Many exotic pet birds and backyard poultry culled to protect commercial poultry. Pet owners felt this was inhumane and socially unjust.</a:t>
            </a:r>
            <a:r>
              <a:rPr b="0" lang="en-US" sz="2000" spc="-1" strike="noStrike" baseline="30000">
                <a:solidFill>
                  <a:srgbClr val="ffff66"/>
                </a:solidFill>
                <a:latin typeface="Times New Roman"/>
              </a:rPr>
              <a:t>1</a:t>
            </a:r>
            <a:endParaRPr b="0" lang="en-US" sz="2000" spc="-1" strike="noStrike">
              <a:solidFill>
                <a:srgbClr val="ffffff"/>
              </a:solidFill>
              <a:latin typeface="Garamond"/>
            </a:endParaRPr>
          </a:p>
          <a:p>
            <a:pPr lvl="2" marL="1131480" indent="-226080">
              <a:lnSpc>
                <a:spcPct val="100000"/>
              </a:lnSpc>
              <a:spcBef>
                <a:spcPts val="601"/>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balance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 v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a:t>
            </a:r>
            <a:r>
              <a:rPr b="0" lang="en-US" sz="2400" spc="-1" strike="noStrike">
                <a:solidFill>
                  <a:srgbClr val="ffff66"/>
                </a:solidFill>
                <a:latin typeface="Times New Roman"/>
              </a:rPr>
              <a:t> </a:t>
            </a:r>
            <a:r>
              <a:rPr b="0" i="1" lang="en-US" sz="2400" spc="-1" strike="noStrike">
                <a:solidFill>
                  <a:srgbClr val="ffff66"/>
                </a:solidFill>
                <a:latin typeface="Times New Roman"/>
              </a:rPr>
              <a:t>benef.</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293" name="Date Placeholder 3"/>
          <p:cNvSpPr/>
          <p:nvPr/>
        </p:nvSpPr>
        <p:spPr>
          <a:xfrm>
            <a:off x="78487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baseline="-25000">
                <a:solidFill>
                  <a:srgbClr val="ffffff"/>
                </a:solidFill>
                <a:latin typeface="Arial"/>
              </a:rPr>
              <a:t> </a:t>
            </a:r>
            <a:r>
              <a:rPr b="0" lang="en-US" sz="1200" spc="-1" strike="noStrike">
                <a:solidFill>
                  <a:srgbClr val="ffffff"/>
                </a:solidFill>
                <a:latin typeface="Arial"/>
              </a:rPr>
              <a:t>Daley 2003</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96" name="PlaceHolder 2"/>
          <p:cNvSpPr>
            <a:spLocks noGrp="1"/>
          </p:cNvSpPr>
          <p:nvPr>
            <p:ph/>
          </p:nvPr>
        </p:nvSpPr>
        <p:spPr>
          <a:xfrm>
            <a:off x="456840" y="1676160"/>
            <a:ext cx="8534520" cy="510516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ntingent</a:t>
            </a:r>
            <a:r>
              <a:rPr b="0" lang="en-US" sz="2800" spc="-1" strike="noStrike">
                <a:solidFill>
                  <a:srgbClr val="ffff66"/>
                </a:solidFill>
                <a:latin typeface="Times New Roman"/>
              </a:rPr>
              <a:t> Compensa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during an eradication campaign would be contingent on a farm’s biosecurity or pest prevention/control activities prior to the outbreak.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courages producers to invest more resources in pest prevention, so taxpayers have to pay less compensation during outbreaks that would have been cheaper to prevent.</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p:txBody>
      </p:sp>
      <p:sp>
        <p:nvSpPr>
          <p:cNvPr id="297" name="Date Placeholder 3"/>
          <p:cNvSpPr/>
          <p:nvPr/>
        </p:nvSpPr>
        <p:spPr>
          <a:xfrm>
            <a:off x="70866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Horst et al. 1999</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0" name="PlaceHolder 2"/>
          <p:cNvSpPr>
            <a:spLocks noGrp="1"/>
          </p:cNvSpPr>
          <p:nvPr>
            <p:ph/>
          </p:nvPr>
        </p:nvSpPr>
        <p:spPr>
          <a:xfrm>
            <a:off x="456840" y="1371240"/>
            <a:ext cx="8534520" cy="5257800"/>
          </a:xfrm>
          <a:prstGeom prst="rect">
            <a:avLst/>
          </a:prstGeom>
          <a:noFill/>
          <a:ln w="0">
            <a:noFill/>
          </a:ln>
        </p:spPr>
        <p:txBody>
          <a:bodyPr anchor="t">
            <a:normAutofit fontScale="95000"/>
          </a:bodyPr>
          <a:p>
            <a:pPr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05600" indent="-2714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st Insurance</a:t>
            </a:r>
            <a:r>
              <a:rPr b="0" lang="en-US" sz="2800" spc="-1" strike="noStrike" baseline="30000">
                <a:solidFill>
                  <a:srgbClr val="ffff66"/>
                </a:solidFill>
                <a:latin typeface="Times New Roman"/>
              </a:rPr>
              <a:t>1,2</a:t>
            </a:r>
            <a:endParaRPr b="0" lang="en-US" sz="28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during an eradication campaign would be contingent on purchasing pest insurance prior to outbreak</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emiums collected from participating ag. producers would help finance compensation during outbreaks</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ductible that policyholder must pay before receiving compensation for losses will encourage them to adopt pest prevention activitie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dverse selection, moral hazard, asymmetric information, or large-scale outbreaks may make pest insurance financially unsustainable without government subsidies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p:txBody>
      </p:sp>
      <p:sp>
        <p:nvSpPr>
          <p:cNvPr id="301" name="Date Placeholder 3"/>
          <p:cNvSpPr/>
          <p:nvPr/>
        </p:nvSpPr>
        <p:spPr>
          <a:xfrm>
            <a:off x="7086600" y="66103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Gramig et al. 2009</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Grannis 2004</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0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4" name="PlaceHolder 2"/>
          <p:cNvSpPr>
            <a:spLocks noGrp="1"/>
          </p:cNvSpPr>
          <p:nvPr>
            <p:ph/>
          </p:nvPr>
        </p:nvSpPr>
        <p:spPr>
          <a:xfrm>
            <a:off x="456840" y="1371240"/>
            <a:ext cx="8534520" cy="5257800"/>
          </a:xfrm>
          <a:prstGeom prst="rect">
            <a:avLst/>
          </a:prstGeom>
          <a:noFill/>
          <a:ln w="0">
            <a:noFill/>
          </a:ln>
        </p:spPr>
        <p:txBody>
          <a:bodyPr anchor="t">
            <a:normAutofit fontScale="97000"/>
          </a:bodyPr>
          <a:p>
            <a:pPr marL="332640" indent="-3326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uring major animal disease outbreak, a national animal identification system would enable U.S. to quickly trace infected animals through supply chain, isolate infected herds, and minimize time trade partners close borders</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t>
            </a:r>
            <a:endParaRPr b="0" lang="en-US" sz="24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 Animal Identification Plan of 2003 was controversial, and rejected (especially by the cattle industry), due to concerns about confidentiality of data, cost to individual producers, and lack of benefits to individuals</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oluntary system was put in place, but only 40% of livestock premises registered – not enough traceability</a:t>
            </a:r>
            <a:r>
              <a:rPr b="0" lang="en-US" sz="2400" spc="-1" strike="noStrike" baseline="30000">
                <a:solidFill>
                  <a:srgbClr val="ffff66"/>
                </a:solidFill>
                <a:latin typeface="Times New Roman"/>
              </a:rPr>
              <a:t>3</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305" name="Date Placeholder 3"/>
          <p:cNvSpPr/>
          <p:nvPr/>
        </p:nvSpPr>
        <p:spPr>
          <a:xfrm>
            <a:off x="7543800" y="6629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Murphy et al. 2008</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Anderson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 Knutson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8" name="PlaceHolder 2"/>
          <p:cNvSpPr>
            <a:spLocks noGrp="1"/>
          </p:cNvSpPr>
          <p:nvPr>
            <p:ph/>
          </p:nvPr>
        </p:nvSpPr>
        <p:spPr>
          <a:xfrm>
            <a:off x="456840" y="13712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rollment in voluntary animal identification system suffered positive externalities (social benefits of a producer enrolling &gt; private benefits of enrolling), so fewer individuals chose to enroll than society wanted</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f provided incentives to enroll, or made it mandatory,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 of disease traceability</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producers believe existing identification tools work just fine (e.g., branding, or vaccination ear-tags), and a national animal identification system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 </a:t>
            </a:r>
            <a:r>
              <a:rPr b="0" lang="en-US" sz="2400" spc="-1" strike="noStrike">
                <a:solidFill>
                  <a:srgbClr val="ffff66"/>
                </a:solidFill>
                <a:latin typeface="Times New Roman"/>
              </a:rPr>
              <a:t>efficiency of animal identification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1" name="PlaceHolder 2"/>
          <p:cNvSpPr>
            <a:spLocks noGrp="1"/>
          </p:cNvSpPr>
          <p:nvPr>
            <p:ph/>
          </p:nvPr>
        </p:nvSpPr>
        <p:spPr>
          <a:xfrm>
            <a:off x="456840" y="13712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all producers were concerned that a national animal identification system (NAIS) would impose disproportionally-large costs on them and give large producers a market advantage. If NAIS made livestock industry less competitive, it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oducer discomfort with confidentiality of their herds’ data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social justice)</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ewer animals slaughtered during a disease outbreak due to NAIS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animal welfare)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4" name="PlaceHolder 2"/>
          <p:cNvSpPr>
            <a:spLocks noGrp="1"/>
          </p:cNvSpPr>
          <p:nvPr>
            <p:ph/>
          </p:nvPr>
        </p:nvSpPr>
        <p:spPr>
          <a:xfrm>
            <a:off x="456840" y="13712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PHIS replaced NAIS concept with a draft rule in 2011 emphasizing animal disease traceability for interstate livestock movements only</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raft rule proposes to establish minimum national requirements for animal identification and documentation when moving livestock interstate</a:t>
            </a:r>
            <a:endParaRPr b="0" lang="en-US" sz="2400" spc="-1" strike="noStrike">
              <a:solidFill>
                <a:srgbClr val="ffffff"/>
              </a:solidFill>
              <a:latin typeface="Garamond"/>
            </a:endParaRPr>
          </a:p>
          <a:p>
            <a:pPr lvl="3" marL="1568160" indent="-223920">
              <a:lnSpc>
                <a:spcPct val="100000"/>
              </a:lnSpc>
              <a:spcBef>
                <a:spcPts val="499"/>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everal identification methods/devices would be acceptable, and states could make bilateral agreements to accept other alternatives</a:t>
            </a:r>
            <a:endParaRPr b="0" lang="en-US" sz="2000" spc="-1" strike="noStrike">
              <a:solidFill>
                <a:srgbClr val="ffffff"/>
              </a:solidFill>
              <a:latin typeface="Garamond"/>
            </a:endParaRPr>
          </a:p>
          <a:p>
            <a:pPr lvl="3" marL="1568160" indent="-223920">
              <a:lnSpc>
                <a:spcPct val="100000"/>
              </a:lnSpc>
              <a:spcBef>
                <a:spcPts val="499"/>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ivestock would have to be accompanied by an interstate certificate of veterinary inspection with animals’ origin and destination, and, in some cases, official identification numbers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ff"/>
              </a:solidFill>
              <a:latin typeface="Garamond"/>
            </a:endParaRPr>
          </a:p>
        </p:txBody>
      </p:sp>
      <p:sp>
        <p:nvSpPr>
          <p:cNvPr id="315" name="Date Placeholder 3"/>
          <p:cNvSpPr/>
          <p:nvPr/>
        </p:nvSpPr>
        <p:spPr>
          <a:xfrm>
            <a:off x="7543800" y="6629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USDA APHIS 2011</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6"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8" name="PlaceHolder 2"/>
          <p:cNvSpPr>
            <a:spLocks noGrp="1"/>
          </p:cNvSpPr>
          <p:nvPr>
            <p:ph/>
          </p:nvPr>
        </p:nvSpPr>
        <p:spPr>
          <a:xfrm>
            <a:off x="456840" y="1371240"/>
            <a:ext cx="8534520" cy="5257800"/>
          </a:xfrm>
          <a:prstGeom prst="rect">
            <a:avLst/>
          </a:prstGeom>
          <a:noFill/>
          <a:ln w="0">
            <a:noFill/>
          </a:ln>
        </p:spPr>
        <p:txBody>
          <a:bodyPr anchor="t">
            <a:normAutofit fontScale="94000"/>
          </a:bodyPr>
          <a:p>
            <a:pPr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698400" indent="-2685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ould allow animal health experts to make emergency response decisions based on better information about infected animal’s herd of origin</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ould reduce the need for extreme precautionary measures during an outbreak (e.g., large quarantine zones;  pre-emptive culling; pre-emptive vaccination)</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ster disease traceability should cause trade partners to respond less severely to future disease outbreaks in U.S.</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aster disease traceability sh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the cost of future disease outbreaks in U.S. (assuming administrative costs </a:t>
            </a:r>
            <a:r>
              <a:rPr b="0" lang="en-US" sz="2400" spc="-1" strike="noStrike">
                <a:solidFill>
                  <a:srgbClr val="ffff66"/>
                </a:solidFill>
                <a:latin typeface="Times New Roman"/>
              </a:rPr>
              <a:t>	</a:t>
            </a:r>
            <a:r>
              <a:rPr b="0" lang="en-US" sz="2400" spc="-1" strike="noStrike">
                <a:solidFill>
                  <a:srgbClr val="ffff66"/>
                </a:solidFill>
                <a:latin typeface="Times New Roman"/>
              </a:rPr>
              <a:t>do not exceed traceability’s benefits)</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27"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BSE (mad-cow disease) was detected in a Washington State dairy cow in 2003</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30 trade partners closed borders to U.S. cattle and beef product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share of world beef exports fell from 8.7 to 1.7 percent immediately</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ok ~4 years to recover to pre-BSE share</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p:txBody>
      </p:sp>
      <p:sp>
        <p:nvSpPr>
          <p:cNvPr id="128"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Marsh et al. 2008</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Johnson and Stone 2011</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have interventions achieved overall?</a:t>
            </a:r>
            <a:endParaRPr b="1" lang="en-US" sz="4400" spc="-1" strike="noStrike">
              <a:solidFill>
                <a:srgbClr val="e5e5ff"/>
              </a:solidFill>
              <a:latin typeface="Garamond"/>
            </a:endParaRPr>
          </a:p>
        </p:txBody>
      </p:sp>
      <p:sp>
        <p:nvSpPr>
          <p:cNvPr id="321" name="PlaceHolder 2"/>
          <p:cNvSpPr>
            <a:spLocks noGrp="1"/>
          </p:cNvSpPr>
          <p:nvPr>
            <p:ph/>
          </p:nvPr>
        </p:nvSpPr>
        <p:spPr>
          <a:xfrm>
            <a:off x="456840" y="1371240"/>
            <a:ext cx="8534520" cy="5257800"/>
          </a:xfrm>
          <a:prstGeom prst="rect">
            <a:avLst/>
          </a:prstGeom>
          <a:noFill/>
          <a:ln w="0">
            <a:noFill/>
          </a:ln>
        </p:spPr>
        <p:txBody>
          <a:bodyPr anchor="t">
            <a:normAutofit fontScale="97000"/>
          </a:bodyPr>
          <a:p>
            <a:pPr marL="332640" indent="-3326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ide variety of interventions attempt to correct/mitigate externalities, public goods, and imperfect information</a:t>
            </a:r>
            <a:endParaRPr b="0" lang="en-US" sz="36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arly every intervention addresses externalities</a:t>
            </a:r>
            <a:endParaRPr b="0" lang="en-US" sz="28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always successful (e.g., animal identification)</a:t>
            </a:r>
            <a:endParaRPr b="0" lang="en-US" sz="24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ewer interventions address public goods and imperfect information</a:t>
            </a:r>
            <a:endParaRPr b="0" lang="en-US" sz="28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et no obvious policy gaps exist </a:t>
            </a:r>
            <a:endParaRPr b="0" lang="en-US" sz="24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overnment or public-private provides inspection services, research, data collection and coordination </a:t>
            </a:r>
            <a:endParaRPr b="0" lang="en-US" sz="2400" spc="-1" strike="noStrike">
              <a:solidFill>
                <a:srgbClr val="ffffff"/>
              </a:solidFill>
              <a:latin typeface="Garamond"/>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have interventions achieved overall?</a:t>
            </a:r>
            <a:endParaRPr b="1" lang="en-US" sz="4400" spc="-1" strike="noStrike">
              <a:solidFill>
                <a:srgbClr val="e5e5ff"/>
              </a:solidFill>
              <a:latin typeface="Garamond"/>
            </a:endParaRPr>
          </a:p>
        </p:txBody>
      </p:sp>
      <p:sp>
        <p:nvSpPr>
          <p:cNvPr id="324" name="PlaceHolder 2"/>
          <p:cNvSpPr>
            <a:spLocks noGrp="1"/>
          </p:cNvSpPr>
          <p:nvPr>
            <p:ph/>
          </p:nvPr>
        </p:nvSpPr>
        <p:spPr>
          <a:xfrm>
            <a:off x="456840" y="1294920"/>
            <a:ext cx="8534520" cy="5257800"/>
          </a:xfrm>
          <a:prstGeom prst="rect">
            <a:avLst/>
          </a:prstGeom>
          <a:noFill/>
          <a:ln w="0">
            <a:noFill/>
          </a:ln>
        </p:spPr>
        <p:txBody>
          <a:bodyPr anchor="t">
            <a:normAutofit fontScale="90000"/>
          </a:bodyPr>
          <a:p>
            <a:pPr marL="308520" indent="-3085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ventions affect pest prevention/control efficiency in wide variety of ways</a:t>
            </a:r>
            <a:endParaRPr b="0" lang="en-US" sz="36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Many</a:t>
            </a:r>
            <a:r>
              <a:rPr b="0" lang="en-US" sz="2800" spc="-1" strike="noStrike">
                <a:solidFill>
                  <a:srgbClr val="ffff66"/>
                </a:solidFill>
                <a:latin typeface="Times New Roman"/>
              </a:rPr>
              <a:t> interventions attempt to improve </a:t>
            </a:r>
            <a:r>
              <a:rPr b="0" i="1" lang="en-US" sz="2800" spc="-1" strike="noStrike">
                <a:solidFill>
                  <a:srgbClr val="ffff66"/>
                </a:solidFill>
                <a:latin typeface="Times New Roman"/>
              </a:rPr>
              <a:t>technical</a:t>
            </a:r>
            <a:r>
              <a:rPr b="0" lang="en-US" sz="2800" spc="-1" strike="noStrike">
                <a:solidFill>
                  <a:srgbClr val="ffff66"/>
                </a:solidFill>
                <a:latin typeface="Times New Roman"/>
              </a:rPr>
              <a:t>, </a:t>
            </a:r>
            <a:r>
              <a:rPr b="0" i="1" lang="en-US" sz="2800" spc="-1" strike="noStrike">
                <a:solidFill>
                  <a:srgbClr val="ffff66"/>
                </a:solidFill>
                <a:latin typeface="Times New Roman"/>
              </a:rPr>
              <a:t>allocative</a:t>
            </a:r>
            <a:r>
              <a:rPr b="0" lang="en-US" sz="2800" spc="-1" strike="noStrike">
                <a:solidFill>
                  <a:srgbClr val="ffff66"/>
                </a:solidFill>
                <a:latin typeface="Times New Roman"/>
              </a:rPr>
              <a:t>, and/or </a:t>
            </a:r>
            <a:r>
              <a:rPr b="0" i="1" lang="en-US" sz="2800" spc="-1" strike="noStrike">
                <a:solidFill>
                  <a:srgbClr val="ffff66"/>
                </a:solidFill>
                <a:latin typeface="Times New Roman"/>
              </a:rPr>
              <a:t>dynamic</a:t>
            </a:r>
            <a:r>
              <a:rPr b="0" lang="en-US" sz="2800" spc="-1" strike="noStrike">
                <a:solidFill>
                  <a:srgbClr val="ffff66"/>
                </a:solidFill>
                <a:latin typeface="Times New Roman"/>
              </a:rPr>
              <a:t> efficiency</a:t>
            </a:r>
            <a:endParaRPr b="0" lang="en-US" sz="28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Few</a:t>
            </a:r>
            <a:r>
              <a:rPr b="0" lang="en-US" sz="2800" spc="-1" strike="noStrike">
                <a:solidFill>
                  <a:srgbClr val="ffff66"/>
                </a:solidFill>
                <a:latin typeface="Times New Roman"/>
              </a:rPr>
              <a:t> attempt to improve </a:t>
            </a:r>
            <a:r>
              <a:rPr b="0" i="1" lang="en-US" sz="2800" spc="-1" strike="noStrike">
                <a:solidFill>
                  <a:srgbClr val="ffff66"/>
                </a:solidFill>
                <a:latin typeface="Times New Roman"/>
              </a:rPr>
              <a:t>nonmarket benef. outcomes</a:t>
            </a:r>
            <a:endParaRPr b="0" lang="en-US" sz="2800" spc="-1" strike="noStrike">
              <a:solidFill>
                <a:srgbClr val="ffffff"/>
              </a:solidFill>
              <a:latin typeface="Garamond"/>
            </a:endParaRPr>
          </a:p>
          <a:p>
            <a:pPr lvl="2" marL="1028520" indent="-205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ack of awareness, or just lower on priority list given limited resources for non-native pest prevention/control?</a:t>
            </a:r>
            <a:endParaRPr b="0" lang="en-US" sz="24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Some</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one performance category, bu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another</a:t>
            </a:r>
            <a:endParaRPr b="0" lang="en-US" sz="28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ny interventions affect &gt;1 category simultaneously </a:t>
            </a:r>
            <a:endParaRPr b="0" lang="en-US" sz="24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deoffs may exist between performance categories</a:t>
            </a:r>
            <a:endParaRPr b="0" lang="en-US" sz="24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interventions have ambiguous net effects</a:t>
            </a:r>
            <a:endParaRPr b="0" lang="en-US" sz="2400" spc="-1" strike="noStrike">
              <a:solidFill>
                <a:srgbClr val="ffffff"/>
              </a:solidFill>
              <a:latin typeface="Garamond"/>
            </a:endParaRPr>
          </a:p>
          <a:p>
            <a:pPr lvl="1" marL="66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licymakers should ask the following 5 questions:</a:t>
            </a:r>
            <a:endParaRPr b="1" lang="en-US" sz="4400" spc="-1" strike="noStrike">
              <a:solidFill>
                <a:srgbClr val="e5e5ff"/>
              </a:solidFill>
              <a:latin typeface="Garamond"/>
            </a:endParaRPr>
          </a:p>
        </p:txBody>
      </p:sp>
      <p:sp>
        <p:nvSpPr>
          <p:cNvPr id="327" name="PlaceHolder 2"/>
          <p:cNvSpPr>
            <a:spLocks noGrp="1"/>
          </p:cNvSpPr>
          <p:nvPr>
            <p:ph/>
          </p:nvPr>
        </p:nvSpPr>
        <p:spPr>
          <a:xfrm>
            <a:off x="304920" y="1600200"/>
            <a:ext cx="8686800" cy="4952880"/>
          </a:xfrm>
          <a:prstGeom prst="rect">
            <a:avLst/>
          </a:prstGeom>
          <a:noFill/>
          <a:ln w="0">
            <a:noFill/>
          </a:ln>
        </p:spPr>
        <p:txBody>
          <a:bodyPr anchor="t">
            <a:normAutofit fontScale="89000"/>
          </a:bodyPr>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s this intervention actually needed; what market failure would it address?</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this intervention’s benefits outweigh its costs?</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investment in some other pest-related intervention generate more net benefit than this one?</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investment in some other agricultural marketing issue, not related to pests, generate more net benefit than this one?</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ow would this intervention affect all categories of efficiency, including </a:t>
            </a:r>
            <a:r>
              <a:rPr b="0" i="1" lang="en-US" sz="2800" spc="-1" strike="noStrike">
                <a:solidFill>
                  <a:srgbClr val="ffff66"/>
                </a:solidFill>
                <a:latin typeface="Times New Roman"/>
              </a:rPr>
              <a:t>non-market beneficial outcomes</a:t>
            </a:r>
            <a:r>
              <a:rPr b="0" lang="en-US" sz="2800" spc="-1" strike="noStrike">
                <a:solidFill>
                  <a:srgbClr val="ffff66"/>
                </a:solidFill>
                <a:latin typeface="Times New Roman"/>
              </a:rPr>
              <a:t>?</a:t>
            </a:r>
            <a:endParaRPr b="0" lang="en-US" sz="2800" spc="-1" strike="noStrike">
              <a:solidFill>
                <a:srgbClr val="ffffff"/>
              </a:solidFill>
              <a:latin typeface="Garamond"/>
            </a:endParaRPr>
          </a:p>
          <a:p>
            <a:pPr lvl="1" marL="658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58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
        <p:nvSpPr>
          <p:cNvPr id="330" name="PlaceHolder 2"/>
          <p:cNvSpPr>
            <a:spLocks noGrp="1"/>
          </p:cNvSpPr>
          <p:nvPr>
            <p:ph/>
          </p:nvPr>
        </p:nvSpPr>
        <p:spPr>
          <a:xfrm>
            <a:off x="456840" y="1371240"/>
            <a:ext cx="8381880" cy="472428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Anderson DP (2010) The US animal identification experience. J Agric Appl Econ 42:543-55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Aultman S, Hurley T, Homans F et al (2010) Valuing monitoring networks for invasive species: the case of soybean rust. Annual Meeting of the Agric Appli Econ Assoc. http://ageconsearch.umn.edu/bitstream/62011/2/AAEA selected paper 11583.pdf. Accessed 23 February 2012 </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Bram RA, George JE (2000) Introduction of nonindigenous arthropod pests of animals. J Med Entomol 37:1-8</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Bruckner GK, Vosloo W, Du Plessis BJA et al (2002) Foot and mouth disease: the experience of South Africa. Rev Sci Tech Off Int Epizoot 21:751-764</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Cooperative Agricultural Pest Survey (2009) National Survey Guidelines 2010.USDA APHIS. http://www.aphis.usda.gov/plant_health/plant_pest_info/pest_detection/downloads/survey/survey-2010/2010 National Survey Guidelines.pdf. Accessed 25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Daley WH (2003) Exotic Newcastle disease (END) and the mass killing of birds petition. Superior Court of the State of California case BS 081649 on 24 March 2003. http://www.upc-online.org/poultry_diseases/4303petition. htm. Accessed 6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arber L, Hill G, Rodriguez J et al (2007) Non-commercial poultry industries: surveys of backyard and gamefowl breeder flocks in the United States. Prev Vet Med 80:120-128</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
          <p:cNvSpPr txBox="1"/>
          <p:nvPr/>
        </p:nvSpPr>
        <p:spPr>
          <a:xfrm>
            <a:off x="457200" y="1295280"/>
            <a:ext cx="8229600" cy="4525920"/>
          </a:xfrm>
          <a:prstGeom prst="rect">
            <a:avLst/>
          </a:prstGeom>
          <a:noFill/>
          <a:ln w="0">
            <a:noFill/>
          </a:ln>
        </p:spPr>
        <p:txBody>
          <a:bodyPr anchor="t">
            <a:normAutofit fontScale="89000"/>
          </a:bodyPr>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ehlhar M, Dohlman E, Brooks N et al (2007) Global growth, macroeconomic change, and US agricultural trade. USDA ERS. http://www.ers.usda.gov/publications/err46/err46.pdf. Accessed 19 August 2010 </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emmeke EAAC, Batho H, Bonbon E et al (2008) Compartmentalisation and zoning: the Dutch perspective. Rev Sci Tech Off Int Epizoot 27:679-688</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ramig BM, Horan RD, Wolf CA (2009) Livestock disease indemnity design when moral hazard is followed by adverse selection. Am J Agric Econ 91:627-641</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rannis JL, Green JW, Bruch ML (2004). Animal health: the potential role for livestock disease insurance. West Econ Forum 3:1-6</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Hall C (2004) Impact of avian influenza on US poultry trade relations-2002: H5 or H7 low pathogenic avian influenza. Ann NY Acad Sci 1026:47-53</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Horst HS, de Vos CJ, Tomassen FHM et al (1999) The economic evaluation of control and eradication of epidemic livestock diseases. Rev Sci Tech Off Int Epizoot 18:367-379</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Johnson and Stone. 2011. Export market recovery post livestock disease outbreak – cattle.  FS3-11/11. Livestock Marketing Information Center. http://www.lmic.info.  </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Knutson RD (2010) Discussion: animal identification systems in North America: achievements and future challenges. J Agric Appli Econ 42:571-574</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Livingstone PG, Ryan TJ, Hancox NG et al (2006) Regionalisation: a strategy that will assist with bovine tuberculosis control and facilitate trade. Vet Microbiol 112:291-301</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3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
          <p:cNvSpPr txBox="1"/>
          <p:nvPr/>
        </p:nvSpPr>
        <p:spPr>
          <a:xfrm>
            <a:off x="457200" y="1295280"/>
            <a:ext cx="8229600" cy="4724640"/>
          </a:xfrm>
          <a:prstGeom prst="rect">
            <a:avLst/>
          </a:prstGeom>
          <a:noFill/>
          <a:ln w="0">
            <a:noFill/>
          </a:ln>
        </p:spPr>
        <p:txBody>
          <a:bodyPr anchor="t">
            <a:normAutofit fontScale="95000"/>
          </a:bodyPr>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agarey RD, Fowler GA, Borchert DM et al (2007) NAPPFAST: an internet system for the weather-based mapping of plant pathogens. Plant Dis 91:336-345</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arsh JM, Brester GW, Smith VH (2008) Effects of North American BSE events on US cattle prices. Rev Agric Econ 30:136-15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urphy RGL, Pendell DL, Morris DL et al (2008) Review: animal identification systems in North America. Prof Anim Sci 24:277-286</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National Biological Information Infrastructure [NBII] (2008) Partners of the Invasive Species Information Node. US Geological Survey. http://www.nbii.gov/portal/server.pt/community/about_the_node/923/partners /2754. Accessed 25 September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National Invasive Species Council [NISC] (2008) 2008-2012 National invasive species management plan. US Department of the Interior. http://www.invasivespecies.gov/main_nav/mn_NISC_ManagementPlan.html. Accessed 6 September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OIE Regional Commission for the Americas [OIE RCA] (2004) Proposed strategic plan 2005-2010. http://www.rr-americas.oie.int/in/comregional/in_planestrategico.htm. Accessed 29 August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eck DE (2010) Bovine brucellosis in the Greater Yellowstone Area: an economic diagnosis. West Econ Forum 9:27-44</a:t>
            </a:r>
            <a:endParaRPr b="0" lang="en-US" sz="1600" spc="-1" strike="noStrike">
              <a:solidFill>
                <a:srgbClr val="ffffff"/>
              </a:solidFill>
              <a:latin typeface="Garamond"/>
            </a:endParaRPr>
          </a:p>
        </p:txBody>
      </p:sp>
      <p:sp>
        <p:nvSpPr>
          <p:cNvPr id="33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txBox="1"/>
          <p:nvPr/>
        </p:nvSpPr>
        <p:spPr>
          <a:xfrm>
            <a:off x="457200" y="1295280"/>
            <a:ext cx="8229600" cy="4724640"/>
          </a:xfrm>
          <a:prstGeom prst="rect">
            <a:avLst/>
          </a:prstGeom>
          <a:noFill/>
          <a:ln w="0">
            <a:noFill/>
          </a:ln>
        </p:spPr>
        <p:txBody>
          <a:bodyPr anchor="t">
            <a:normAutofit fontScale="99000"/>
          </a:bodyPr>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imentel D, Zuniga R, Morrison D (2005) Update on the environmental and economic costs associated with alien-invasive species in the United States. Ecol Econ 52:273-288</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yburn DG (2003) The Trichinae Certification Program and role of swine veterinarians. J Swine Health Prod 11:190-192</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easer JK, Yeager BB, Phifer PR et al (2003) Environmental diplomacy and the global movement of invasive alien species: a US perspective. In: Ruiz GM, Carlton JT (eds) Invasive species: vectors and management strategies. Island Press, Washington DC</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egional Plant Protection Organization of the Americas (1998)  Memorandum of understanding. http://www.nappo.org/OfficialDoc/memorandum_e.htm. Accessed 29 August 2010</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horer AR (2004) National Poultry Improvement Plan. USDA APHIS. http://www.aphis.usda.gov/animal_health/animal_dis_spec/poultry/downloads/presentations/npip-briefing_files/v3_document.htm. Accessed 26 September 2010</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ich KM, Perry BD, Kaitibie S (2009) Commodity-based trade and market access for developing country livestock products: the case of beef exports from Ethiopia. Int Food Agribus Manag Rev 12:1-22</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ush CM, Stein JM, Bowden RL et al (2005). Status of karnal bunt of wheat in the United States 1996 to 2004. Plant Dis</a:t>
            </a:r>
            <a:r>
              <a:rPr b="0" i="1" lang="en-US" sz="1600" spc="-1" strike="noStrike">
                <a:solidFill>
                  <a:srgbClr val="ffff00"/>
                </a:solidFill>
                <a:latin typeface="Times New Roman"/>
                <a:ea typeface="Times New Roman"/>
              </a:rPr>
              <a:t> </a:t>
            </a:r>
            <a:r>
              <a:rPr b="0" lang="en-US" sz="1600" spc="-1" strike="noStrike">
                <a:solidFill>
                  <a:srgbClr val="ffff00"/>
                </a:solidFill>
                <a:latin typeface="Times New Roman"/>
                <a:ea typeface="Times New Roman"/>
              </a:rPr>
              <a:t>89:212-223</a:t>
            </a:r>
            <a:endParaRPr b="0" lang="en-US" sz="1600" spc="-1" strike="noStrike">
              <a:solidFill>
                <a:srgbClr val="ffffff"/>
              </a:solidFill>
              <a:latin typeface="Garamond"/>
            </a:endParaRPr>
          </a:p>
        </p:txBody>
      </p:sp>
      <p:sp>
        <p:nvSpPr>
          <p:cNvPr id="33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txBox="1"/>
          <p:nvPr/>
        </p:nvSpPr>
        <p:spPr>
          <a:xfrm>
            <a:off x="457200" y="129528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Shane M, Roe T, Somwaru A (2008) Exchange rates, foreign income, and US agricultural exports. Agric Resour Econ Rev 37:160-175</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The White House (1999) Executive order 13112: Presidential Documents, Executive Order 13112 of February 3, 1999, Invasive species. http://ceq.hss.doe.gov/nepa/regs/eos/eo13112.html. Accessed 7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Nations World Trade Organization [UNWTO] (2010)  Yearbook of tourism statistics, 2010 edn (data 2004-2008). http://www.unwto.org/index.php. Accessed 26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Agriculture Animal and Plant Health Inspection Service [USDA APHIS] (2002) Commodity Preclearance Program management guidelines. http://www.aphis.usda.gov/import_export/plants/plant_imports/downloads/preclearance_guidelines.pdf. Accessed 2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05) The Cooperative Agricultural Pest Survey: detecting plant pests and weeds nationwide. http://www.aphis.usda.gov/publications/plant_health/content/printable_ version/pub_phcapsdetecting.pdf. Accessed 25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07) Preclearance activities. http://www.aphis.usda.gov/import_export/plants/plant_imports/preclearance_activities.shtml. Accessed 5 May 2011</a:t>
            </a:r>
            <a:endParaRPr b="0" lang="en-US" sz="1600" spc="-1" strike="noStrike">
              <a:solidFill>
                <a:srgbClr val="ffffff"/>
              </a:solidFill>
              <a:latin typeface="Garamond"/>
            </a:endParaRPr>
          </a:p>
        </p:txBody>
      </p:sp>
      <p:sp>
        <p:nvSpPr>
          <p:cNvPr id="34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txBox="1"/>
          <p:nvPr/>
        </p:nvSpPr>
        <p:spPr>
          <a:xfrm>
            <a:off x="457200" y="1447920"/>
            <a:ext cx="8229600" cy="487656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a) Questions and answers: Offshore Pest Information Program. http://www.aphis.usda.gov/publications/plant_health/content/printable_version/faq_offshore_pest.pdf.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b) Trade issues and risk analysis: hot topics. http://www.aphis.usda.gov/plant_health/cphst/projects/TradeIssues-RiskAnalysis.shtml.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c) Foreign pest and disease eradication efforts. http://www.aphis.usda.gov/international_safeguarding/foreign_disease_eradication.shtml.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d) National Animal Health Monitoring System: national studies of US livestock and poultry. http://nahms.aphis.usda.gov/NAHMS_brochure.pdf. Accessed 26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1) Traceability for livestock moving interstate: docket APHIS-2009-0091, August 11, 2011. Fed Regist 76:50082-50110. http://www.regulations.gov/#!documentDetail; D=APHIS-2009-0091-0001. Accessed 06 April 2012</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Agriculture Economic Research Service [USDA ERS] (2009a) Indicators. Amber Waves 7:38.</a:t>
            </a:r>
            <a:endParaRPr b="0" lang="en-US" sz="1600" spc="-1" strike="noStrike">
              <a:solidFill>
                <a:srgbClr val="ffffff"/>
              </a:solidFill>
              <a:latin typeface="Garamond"/>
            </a:endParaRPr>
          </a:p>
        </p:txBody>
      </p:sp>
      <p:sp>
        <p:nvSpPr>
          <p:cNvPr id="3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6" name=""/>
          <p:cNvSpPr txBox="1"/>
          <p:nvPr/>
        </p:nvSpPr>
        <p:spPr>
          <a:xfrm>
            <a:off x="457200" y="121932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ERS (2009b) Invasive species management: program, policies, and institutions for preventing and managing invasive agricultural pests. http://www.ers.usda.gov/Briefing/InvasiveSpecies/institutions.htm#aphis. Accessed 21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ERS (2010) Outlook for US agricultural trade: report AES-66, May 27, 2010. http://usda.mannlib.cornell.edu/usda/current/AES/AES-05-27-2010.pdf. Accessed 19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HS CBP (2009) Performance and accountability report: fiscal year 2009. http://www.cbp.gov/linkhandler/cgov/newsroom/publications/admin/perform_rpt_2009.ctt/perform_rpt_2009.pdf. Accessed 30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HS CBP, USDA APHIS (2007) Report of the APHIS CBP joint task force on improved agriculture inspection. http://www.aphis. usda.gov/plant_health/aqi_mission.shtml. Accessed 29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Homeland Security Office of Inspector General [USDHS OIG] (2007) Review of Customs and Border Protection’s agriculture inspection activities. http://www.dhs.gov/xoig/assets/mgmtrpts/OIG_07-32_Feb07.pdf. Accessed 27 September 2010</a:t>
            </a:r>
            <a:endParaRPr b="0" lang="en-US" sz="1600" spc="-1" strike="noStrike">
              <a:solidFill>
                <a:srgbClr val="ffffff"/>
              </a:solidFill>
              <a:latin typeface="Garamond"/>
            </a:endParaRPr>
          </a:p>
        </p:txBody>
      </p:sp>
      <p:sp>
        <p:nvSpPr>
          <p:cNvPr id="3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1"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Karnal bunt (caused by fungal pathogen </a:t>
            </a:r>
            <a:r>
              <a:rPr b="0" i="1" lang="en-US" sz="3600" spc="-1" strike="noStrike">
                <a:solidFill>
                  <a:srgbClr val="ffff66"/>
                </a:solidFill>
                <a:latin typeface="Times New Roman"/>
              </a:rPr>
              <a:t>Tilletia indica</a:t>
            </a:r>
            <a:r>
              <a:rPr b="0" lang="en-US" sz="3600" spc="-1" strike="noStrike">
                <a:solidFill>
                  <a:srgbClr val="ffff66"/>
                </a:solidFill>
                <a:latin typeface="Times New Roman"/>
              </a:rPr>
              <a:t> Mitra) detected  in Arizona wheat fields in 1996</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37 trade partners refused U.S. wheat shipment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ionwide karnal bunt surveillance, quarantine, export certificate program created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trade restored</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2</a:t>
            </a:r>
            <a:r>
              <a:rPr b="0" lang="en-US" sz="3600" spc="-1" strike="noStrike" baseline="30000">
                <a:solidFill>
                  <a:srgbClr val="ffff66"/>
                </a:solidFill>
                <a:latin typeface="Times New Roman"/>
              </a:rPr>
              <a:t>nd</a:t>
            </a:r>
            <a:r>
              <a:rPr b="0" lang="en-US" sz="3600" spc="-1" strike="noStrike">
                <a:solidFill>
                  <a:srgbClr val="ffff66"/>
                </a:solidFill>
                <a:latin typeface="Times New Roman"/>
              </a:rPr>
              <a:t> karnal bunt outbreak in U.S. in 2001</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veral counties quarantined; $25 million lost</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p:txBody>
      </p:sp>
      <p:sp>
        <p:nvSpPr>
          <p:cNvPr id="132"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ush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Vocke et al. 2002</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9" name=""/>
          <p:cNvSpPr txBox="1"/>
          <p:nvPr/>
        </p:nvSpPr>
        <p:spPr>
          <a:xfrm>
            <a:off x="457200" y="129528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General Accounting Office [USGAO] (2007) Agricultural Quarantine Inspection Program: management problems may increase vulnerability of US agriculture to foreign pests and diseases. http://www.gao.gov/new.items/d0896t.pdf. Accessed 27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Vocke G, Allen EW, Price JM (2002) Economic analysis of ending the issuance of karnal bunt phytosanitary wheat export certificates. In: Vocke G, Allen E (eds) Wheat situation and outlook yearbook: WHS-2002, March 2002. USDA Economic Research Service, Washington DC. http://usda.mannlib.cornell.edu/usda/ers/WHS-yearbook//2000s/2002/WHS-yearbook-03-26-2002.pdf. Accessed 4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World Trade Organization [WTO] (2000) The WTO agreement series 4: sanitary and phytosanitary measures. WTO Publications. http://www.wto.org/english/res_e/booksp_e/agrmntseries4_sps_08_e.pdf. Accessed 28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World Trade Organization Standards and Trade Development Facility [WTO STDF] (2009) SPS-related capacity evaluation tools: an overview of tools developed by international organizations. WTO Publications. http://www.standardsfacility.org/files/various/STDF_Capacity_Evaluation_Tools_Eng_.pdf. Accessed 26 November 2010</a:t>
            </a:r>
            <a:endParaRPr b="0" lang="en-US" sz="1600" spc="-1" strike="noStrike">
              <a:solidFill>
                <a:srgbClr val="ffffff"/>
              </a:solidFill>
              <a:latin typeface="Garamond"/>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5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5"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lobal transportation of goods &amp; people facilitates spread of non-native pest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agricultural trade expanding </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50% increase between 2001 and 2005</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wo times the growth rate in the previous decade</a:t>
            </a:r>
            <a:endParaRPr b="0" lang="en-US" sz="24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70 billion of agricultural goods imported to United States (a record)</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consumed 348 pounds of imported food per person in 2008, versus 215 lbs/person in 1989</a:t>
            </a:r>
            <a:r>
              <a:rPr b="0" lang="en-US" sz="2800" spc="-1" strike="noStrike" baseline="30000">
                <a:solidFill>
                  <a:srgbClr val="ffff66"/>
                </a:solidFill>
                <a:latin typeface="Times New Roman"/>
              </a:rPr>
              <a:t>3</a:t>
            </a:r>
            <a:endParaRPr b="0" lang="en-US" sz="2800" spc="-1" strike="noStrike">
              <a:solidFill>
                <a:srgbClr val="ffffff"/>
              </a:solidFill>
              <a:latin typeface="Garamond"/>
            </a:endParaRPr>
          </a:p>
        </p:txBody>
      </p:sp>
      <p:sp>
        <p:nvSpPr>
          <p:cNvPr id="136" name="Date Placeholder 3"/>
          <p:cNvSpPr/>
          <p:nvPr/>
        </p:nvSpPr>
        <p:spPr>
          <a:xfrm>
            <a:off x="70866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Gehlhar et al. 2007</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USDA ERS 2009a</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USDA ERS 2010</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9" name="PlaceHolder 2"/>
          <p:cNvSpPr>
            <a:spLocks noGrp="1"/>
          </p:cNvSpPr>
          <p:nvPr>
            <p:ph/>
          </p:nvPr>
        </p:nvSpPr>
        <p:spPr>
          <a:xfrm>
            <a:off x="456840" y="1600200"/>
            <a:ext cx="8381880" cy="2362320"/>
          </a:xfrm>
          <a:prstGeom prst="rect">
            <a:avLst/>
          </a:prstGeom>
          <a:noFill/>
          <a:ln w="0">
            <a:noFill/>
          </a:ln>
        </p:spPr>
        <p:txBody>
          <a:bodyPr anchor="t">
            <a:normAutofit fontScale="95000"/>
          </a:bodyPr>
          <a:p>
            <a:pPr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travel also more common</a:t>
            </a:r>
            <a:endParaRPr b="0" lang="en-US" sz="3600" spc="-1" strike="noStrike">
              <a:solidFill>
                <a:srgbClr val="ffffff"/>
              </a:solidFill>
              <a:latin typeface="Garamond"/>
            </a:endParaRPr>
          </a:p>
          <a:p>
            <a:pPr lvl="1" marL="705600" indent="-2714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58 million people visited the United State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25% increase compared to 2004</a:t>
            </a:r>
            <a:endParaRPr b="0" lang="en-US" sz="24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2 million by air; 25 million by road; 0.5 million by sea</a:t>
            </a:r>
            <a:endParaRPr b="0" lang="en-US" sz="24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om these geographic areas:</a:t>
            </a:r>
            <a:endParaRPr b="0" lang="en-US" sz="2400" spc="-1" strike="noStrike">
              <a:solidFill>
                <a:srgbClr val="ffffff"/>
              </a:solidFill>
              <a:latin typeface="Garamond"/>
            </a:endParaRPr>
          </a:p>
        </p:txBody>
      </p:sp>
      <p:sp>
        <p:nvSpPr>
          <p:cNvPr id="140" name="Date Placeholder 3"/>
          <p:cNvSpPr/>
          <p:nvPr/>
        </p:nvSpPr>
        <p:spPr>
          <a:xfrm>
            <a:off x="769608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NWTO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pic>
        <p:nvPicPr>
          <p:cNvPr id="141" name="Chart 5" descr=""/>
          <p:cNvPicPr/>
          <p:nvPr/>
        </p:nvPicPr>
        <p:blipFill>
          <a:blip r:embed="rId1"/>
          <a:stretch/>
        </p:blipFill>
        <p:spPr>
          <a:xfrm>
            <a:off x="1270080" y="2616120"/>
            <a:ext cx="7264440" cy="4775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41"/>
                                        </p:tgtEl>
                                        <p:attrNameLst>
                                          <p:attrName>style.visibility</p:attrName>
                                        </p:attrNameLst>
                                      </p:cBhvr>
                                      <p:to>
                                        <p:strVal val="visible"/>
                                      </p:to>
                                    </p:set>
                                    <p:animEffect filter="dissolve" transition="in">
                                      <p:cBhvr additive="repl">
                                        <p:cTn id="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6-01T15:57:06Z</dcterms:modified>
  <cp:revision>198</cp:revision>
  <dc:subject/>
  <dc:title>U.S. Policies Affecting Food and Agricultural Marketing</dc:title>
</cp:coreProperties>
</file>